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353D-C3CC-4C1E-86B2-4281D91FF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D28A-67BF-4047-A722-125CCCC11A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24F9-4F99-4DB9-8F25-A5E3C70E73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A74D-ACAD-4A78-AD7A-669334BE9E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1E4D-74DD-4162-AFF2-B5707E379D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8EBE-F813-4F60-AE64-13196640B7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A184-44F4-4EDE-A2D6-99208920B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C18F-0B0D-442D-A7D9-86D5F0F13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4FD0-50ED-409D-A929-2319D7D20D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8D60-6E24-4FD8-9135-A3F41DBBA9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AEAD-34B3-4798-B801-579AC36FC0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D797-7266-4B56-953D-5A2D00BA1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43080"/>
            <a:ext cx="10159920" cy="10159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25520" indent="-3812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75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538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9564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114480" y="7149960"/>
            <a:ext cx="872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3"/>
          <a:stretch/>
        </p:blipFill>
        <p:spPr>
          <a:xfrm>
            <a:off x="5303880" y="6972480"/>
            <a:ext cx="4600440" cy="527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9600" y="6780240"/>
            <a:ext cx="107964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031840"/>
            <a:ext cx="86360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4280" indent="-442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1480" indent="-442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954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10476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1126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196120" y="69465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C1A-9138-4105-88CA-463F85362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2840"/>
            <a:ext cx="10159920" cy="13795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ssd.esa.int/index.php?project=FACULTY" TargetMode="External"/><Relationship Id="rId2" Type="http://schemas.openxmlformats.org/officeDocument/2006/relationships/hyperlink" Target="http://www.rssd.esa.int/index.php?project=FACULTY" TargetMode="External"/><Relationship Id="rId3" Type="http://schemas.openxmlformats.org/officeDocument/2006/relationships/hyperlink" Target="http://www.rssd.esa.int/index.php?project=FACULTY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3800" y="277920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iller"/>
              </a:rPr>
              <a:t>The Facul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41DDD6C6-996D-4439-A840-AB046B843719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8040" y="1185840"/>
            <a:ext cx="956808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ore resources than the 'usual' computer environment and facul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ome problems last year due to short cycle time addressed this year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 is also posted on the Faculty web site 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2"/>
              </a:rPr>
              <a:t>www.rssd.esa.int/index.php?projec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3"/>
              </a:rPr>
              <a:t>=FACUL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imelin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1 Ju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Inter-Departmental Science Workshop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28-29 Au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posals due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5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Review by Faculty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Oral review (Proposers &amp; Exe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7 Oc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xec announce decision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1 O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New funding starts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Janu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im to have presentations of the work resulting from these proposals at this meeting each year (some shown at this 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9F231EA-C54A-40B6-AF1D-B50804CED9A6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84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partmental Research Proposals</a:t>
            </a:r>
            <a:endParaRPr b="1" lang="en-US" sz="32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TE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233CE0E4-73FD-4F5C-B39F-F6B8FA55FB9B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000" y="14400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wo Branches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6880" y="1649520"/>
            <a:ext cx="9112320" cy="4873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 Faculty branch consists of ~ 7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d/tended by ESTEC Faculty Counc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De Marchi (RF Programme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lef Kosch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o Fa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 Pr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 Taylor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Witas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ne Asnes (RF repres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fania Carpano (pending agreement of Facu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3480" y="1649160"/>
            <a:ext cx="101599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 the wider ESTEC Faculty is carried out via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regular (3-4 month)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inion and welfare of Research Fellows is highly regard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(an RF is a member of council) and is a fixed agenda 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STEC Faculty funds is facilitated by a propos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allocation to the Faculty’s science visito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to the Semina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emes of funding are proposed and discussed with the w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t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33480" y="663480"/>
            <a:ext cx="1018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904320" cy="4522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borees are also held to allow science activitie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dvertised among Faculty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 minute / 1-2 slide presentation of Faculty members sci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or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 12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so far only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is encouraged to submit proposals for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A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BC4A2B3-C549-4005-8310-A495187C7FE6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SAC Branch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577880"/>
            <a:ext cx="97650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AC Faculty branch consists of nearly 100 peo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luding ~20 LAEFF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going ESAC Coun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ESAC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arrad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Kuul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(</a:t>
            </a:r>
            <a:r>
              <a:rPr b="1" lang="en-US" sz="2400" spc="-1" strike="noStrike">
                <a:solidFill>
                  <a:srgbClr val="ff3300"/>
                </a:solidFill>
                <a:latin typeface="Chiller"/>
              </a:rPr>
              <a:t>is The 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Metcalfe (is Sentin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Kretschmar (Senti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Montesinos Com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Mas Hes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Pollock (is Exchequ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Cox (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a Santos-Lle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ge Sanz Forca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83C4A1C5-87E0-4CFE-8813-54CA8EC10159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9920" y="1506600"/>
            <a:ext cx="973620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to-facul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a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establish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ヒラギノ明朝 Pro W3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. Council Elections end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ugu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Workshop/Conf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5-0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7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X-rays from Nearby Galaxies: 74 participants (12 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Jamborees (latest Nov. 15 '07 Tot.: 82 spoke/78+ bios on th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ouncil meetings (minute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ssemblies (VG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visitors over past 1.5 years. Stays lasting from days to month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EMB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75 ESA (Staff + Contractors) &amp; 22 LAEFF Research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84360"/>
            <a:ext cx="9312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marL="44280" indent="-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ヒラギノ角ゴ Pro W6"/>
              </a:rPr>
              <a:t>The ESA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217440" y="433440"/>
            <a:ext cx="7023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81D1471-8A7A-4AE7-A1BC-B683D0C099E4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140976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 OF BUDGET ALLOCATED PER CATEGORY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tablished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h.D. student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in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searchers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ost-Docs.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5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Elite seminar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ini-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iscretionar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240" y="21564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wo Branches - ESAC Branch Funding</a:t>
            </a:r>
            <a:endParaRPr b="1" lang="en-US" sz="2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FCAC4B0C-5AE9-4825-BEBB-2F8CDCE88041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61092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ACKNOWLEDGING FUND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Publications</a:t>
            </a:r>
            <a:endParaRPr b="1" lang="en-US" sz="18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2040" y="3030480"/>
            <a:ext cx="82119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2700" spc="-1" strike="noStrike">
                <a:solidFill>
                  <a:srgbClr val="808080"/>
                </a:solidFill>
                <a:latin typeface="Times New Roman"/>
              </a:rPr>
              <a:t>Acknowledgement: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Script MT Bold"/>
              </a:rPr>
              <a:t>We acknowledge support from the Faculty of the European Space Astronomy Centre (ESAC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92320" y="1728720"/>
            <a:ext cx="7488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nd Roles of the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 - Joint Activities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240" y="1293840"/>
            <a:ext cx="99043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ulty seems to be reasonab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ctively contributing to scientific life of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generally seems appreciated by the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ek innovative ways to spend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ven 150 scientists with long-time-average 10% time for science can only support so many vis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embers support the activities very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eep up the 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6880" y="2801520"/>
            <a:ext cx="965232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vities and Roles of the Fa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3A6B7F6B-618C-469F-AFEA-8CB30120228D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72B4E59-3E4C-424F-9579-DD9DDB70EE58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1577880"/>
            <a:ext cx="9117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 Statement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ster a (more) effective scientif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ive a united face to the scientific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constitute the Facul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e (i.e. publishing papers) research scienti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/ESA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 staff, RFs, Science Contractors an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SAC, LAEF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62C39A3-ACDC-4FC6-825D-96771713653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9240" y="1938240"/>
            <a:ext cx="7535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 RESEARCH, SERVING 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expertise, familiarity with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foster empathy with targe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competence to represen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peer respect from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D01410D-B9FE-44C4-BA53-C173C23687A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30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1309680"/>
            <a:ext cx="92170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er the scientific Visito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the RF coordinator in the RF recruitment campaig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Jambore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mina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Conferences and 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Faculty Assembl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eneral purpose advisory role vis-a-vis management &amp; Scie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Annual inter-Departmental Science Gathering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biennial Wise People Committee Review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4320" y="1447560"/>
            <a:ext cx="9975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 the two branches of the Faculty have wor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mplement the following activ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200" y="2733840"/>
            <a:ext cx="87588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year RF exten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RF applications (100 last year, 25 Faculty reviewer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partmental Research Proposals scientific evalu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600" y="1446120"/>
            <a:ext cx="92170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year Research Fellow ext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by 5 person board of ESAC &amp; ESTEC Faculty memb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criteria for review is scientific merit and retu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mmendation of board sent to Divisional managemen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ment have awarded 8 3rd year extensions so f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move towards a yearly call, in line with new RF in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" y="280800"/>
            <a:ext cx="7023240" cy="71892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Joint Activities - RF Recruitmen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" y="1072800"/>
            <a:ext cx="10159920" cy="532908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45720" tIns="50760" bIns="50760" anchor="t">
            <a:normAutofit fontScale="93000"/>
          </a:bodyPr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, science evaluation and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effort from Guido (RF coordinator) to implement new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ly call, fixed deadlines, trans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: 84 complete applications received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Fs accepted (+ 1 international train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management and HR working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ill room for improvement - e.g. re.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dline for applications 15 Octobe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boree + interview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T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ing on candidates geographical prefer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304920"/>
            <a:ext cx="101854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24:36Z</dcterms:created>
  <dc:creator/>
  <dc:description/>
  <cp:keywords/>
  <dc:language>en-US</dc:language>
  <cp:lastModifiedBy>lmetcalf</cp:lastModifiedBy>
  <dcterms:modified xsi:type="dcterms:W3CDTF">2008-08-26T12:34:49Z</dcterms:modified>
  <cp:revision>36</cp:revision>
  <dc:subject/>
  <dc:title>RSSD Faculty</dc:title>
</cp:coreProperties>
</file>