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158413" cy="7621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80388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51040" y="5151240"/>
            <a:ext cx="80388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104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052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69400" y="24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87400" y="24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51040" y="51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69400" y="51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87400" y="51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34A3-2B2D-480F-B81B-8D12B0583B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51040" y="2451240"/>
            <a:ext cx="803880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B9FAC-BEE2-48AC-8034-18325CD1A5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803880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84450-BDF0-43F8-8A02-50E8CEAA8A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C71BB-5D01-4DAB-8B03-4BAACEDD94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9437B-F7BB-4737-BC41-E2F5612ADE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7023240" cy="78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68068-C56F-427F-8D67-42F3A64C24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5104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1DFE3-FA28-44AF-9FFE-2E3ADBB73E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51040" y="2451240"/>
            <a:ext cx="803880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7052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10E7-2BDE-4EC0-951B-D9C27CF6BB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1040" y="5151240"/>
            <a:ext cx="80388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E3164-CA6D-4C8D-9F75-A54FB5AC44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80388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51040" y="5151240"/>
            <a:ext cx="80388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A56EB-E3E4-4785-96B1-25E337EE9E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5104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7052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DB97A-21E9-4857-A904-7DEEA810ED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69400" y="24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87400" y="24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51040" y="51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69400" y="51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287400" y="51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76F7F-C82F-4ED8-9ED0-3017C9942C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803880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7023240" cy="78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104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052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51040" y="5151240"/>
            <a:ext cx="80388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343080"/>
            <a:ext cx="10159920" cy="1015920"/>
          </a:xfrm>
          <a:prstGeom prst="rect">
            <a:avLst/>
          </a:prstGeom>
          <a:gradFill rotWithShape="0">
            <a:gsLst>
              <a:gs pos="0">
                <a:srgbClr val="5797ff"/>
              </a:gs>
              <a:gs pos="100000">
                <a:srgbClr val="fdff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51040" y="2451240"/>
            <a:ext cx="803880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marL="425520" indent="-3812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75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3600" indent="-2538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30520" indent="-25416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195640" indent="-254160">
              <a:spcBef>
                <a:spcPts val="4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195640" indent="-254160">
              <a:spcBef>
                <a:spcPts val="4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195640" indent="-254160">
              <a:spcBef>
                <a:spcPts val="4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0"/>
            <a:ext cx="10159920" cy="34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AutoShape 4"/>
          <p:cNvSpPr/>
          <p:nvPr/>
        </p:nvSpPr>
        <p:spPr>
          <a:xfrm rot="10800000">
            <a:off x="5937120" y="285480"/>
            <a:ext cx="1689120" cy="56016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9d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8381880" y="0"/>
            <a:ext cx="1791000" cy="752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7613640" y="596880"/>
            <a:ext cx="254628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7531200" y="254160"/>
            <a:ext cx="85068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114480" y="7149960"/>
            <a:ext cx="8724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000" tIns="0" bIns="0" anchor="t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Picture 10" descr=""/>
          <p:cNvPicPr/>
          <p:nvPr/>
        </p:nvPicPr>
        <p:blipFill>
          <a:blip r:embed="rId3"/>
          <a:stretch/>
        </p:blipFill>
        <p:spPr>
          <a:xfrm>
            <a:off x="5303880" y="6972480"/>
            <a:ext cx="4600440" cy="52704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4"/>
          <a:stretch/>
        </p:blipFill>
        <p:spPr>
          <a:xfrm>
            <a:off x="39600" y="6780240"/>
            <a:ext cx="107964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2031840"/>
            <a:ext cx="8636040" cy="228600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9d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marL="44280" indent="-442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01480" indent="-4428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9800" indent="-954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76360" indent="-10476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941480" indent="-11268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941480" indent="-11268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941480" indent="-11268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1"/>
          </p:nvPr>
        </p:nvSpPr>
        <p:spPr>
          <a:xfrm>
            <a:off x="8196120" y="69465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58C5-7DF4-4D72-8175-5473CC05E9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312840"/>
            <a:ext cx="10159920" cy="1379520"/>
          </a:xfrm>
          <a:prstGeom prst="rect">
            <a:avLst/>
          </a:prstGeom>
          <a:gradFill rotWithShape="0">
            <a:gsLst>
              <a:gs pos="0">
                <a:srgbClr val="5797ff"/>
              </a:gs>
              <a:gs pos="100000">
                <a:srgbClr val="fdff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10159920" cy="34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AutoShape 6"/>
          <p:cNvSpPr/>
          <p:nvPr/>
        </p:nvSpPr>
        <p:spPr>
          <a:xfrm rot="10800000">
            <a:off x="5937120" y="285480"/>
            <a:ext cx="1689120" cy="56016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8381880" y="0"/>
            <a:ext cx="1791000" cy="7524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7613640" y="596880"/>
            <a:ext cx="254628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7531200" y="254160"/>
            <a:ext cx="85068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ssd.esa.int/index.php?project=FACULTY" TargetMode="External"/><Relationship Id="rId2" Type="http://schemas.openxmlformats.org/officeDocument/2006/relationships/hyperlink" Target="http://www.rssd.esa.int/index.php?project=FACULTY" TargetMode="External"/><Relationship Id="rId3" Type="http://schemas.openxmlformats.org/officeDocument/2006/relationships/hyperlink" Target="http://www.rssd.esa.int/index.php?project=FACULTY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3800" y="2779200"/>
            <a:ext cx="9651960" cy="1101960"/>
          </a:xfrm>
          <a:prstGeom prst="rect">
            <a:avLst/>
          </a:prstGeom>
          <a:solidFill>
            <a:srgbClr val="fdffc7"/>
          </a:solidFill>
          <a:ln w="0">
            <a:noFill/>
          </a:ln>
        </p:spPr>
        <p:txBody>
          <a:bodyPr lIns="50760" rIns="96840" tIns="50760" bIns="50760"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Chiller"/>
              </a:rPr>
              <a:t>The Facult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D879E824-158F-4F5C-BE54-5F1FEB49C813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1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38040" y="1185840"/>
            <a:ext cx="9568080" cy="55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lvl="1" marL="210960">
              <a:lnSpc>
                <a:spcPct val="110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More resources than the 'usual' computer environment and faculty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10960">
              <a:lnSpc>
                <a:spcPct val="110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Some problems last year due to short cycle time addressed this year!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10960">
              <a:lnSpc>
                <a:spcPct val="110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Call is also posted on the Faculty web site a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ヒラギノ明朝 Pro W3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ヒラギノ明朝 Pro W3"/>
                <a:hlinkClick r:id="rId2"/>
              </a:rPr>
              <a:t>www.rssd.esa.int/index.php?project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ヒラギノ明朝 Pro W3"/>
                <a:hlinkClick r:id="rId3"/>
              </a:rPr>
              <a:t>=FACUL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imeline: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01 Ju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Inter-Departmental Science Workshop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28-29 Aug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Proposals due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15 Sep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Review by Faculty comple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30 Sep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Oral review (Proposers &amp; Exe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07 Oct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Exec announce decision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1 Oc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New funding starts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   Janu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Aim to have presentations of the work resulting from these proposals at this meeting each year (some shown at this o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C56EB9C3-5413-4194-9AA3-DA6193E15A5D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1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840" y="394920"/>
            <a:ext cx="9312480" cy="677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Departmental Research Proposals</a:t>
            </a:r>
            <a:endParaRPr b="1" lang="en-US" sz="3200" spc="-1" strike="noStrike">
              <a:solidFill>
                <a:srgbClr val="0029d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3800" y="2623680"/>
            <a:ext cx="9651960" cy="1101960"/>
          </a:xfrm>
          <a:prstGeom prst="rect">
            <a:avLst/>
          </a:prstGeom>
          <a:solidFill>
            <a:srgbClr val="fdffc7"/>
          </a:solidFill>
          <a:ln w="0">
            <a:noFill/>
          </a:ln>
        </p:spPr>
        <p:txBody>
          <a:bodyPr lIns="50760" rIns="96840" tIns="50760" bIns="5076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ESTEC Bra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D5345021-79FF-431D-9603-52160061951B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1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144360" y="144360"/>
            <a:ext cx="70232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000" y="144000"/>
            <a:ext cx="7023240" cy="1073160"/>
          </a:xfrm>
          <a:prstGeom prst="rect">
            <a:avLst/>
          </a:prstGeom>
          <a:noFill/>
          <a:ln w="0">
            <a:noFill/>
          </a:ln>
        </p:spPr>
        <p:txBody>
          <a:bodyPr lIns="50760" rIns="14256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Two Branches</a:t>
            </a: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6880" y="1649520"/>
            <a:ext cx="9112320" cy="4873680"/>
          </a:xfrm>
          <a:prstGeom prst="rect">
            <a:avLst/>
          </a:prstGeom>
          <a:noFill/>
          <a:ln w="0">
            <a:noFill/>
          </a:ln>
        </p:spPr>
        <p:txBody>
          <a:bodyPr lIns="50760" rIns="45720" tIns="50760" bIns="50760"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C Faculty branch consists of ~ 70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sed/tended by ESTEC Faculty Counc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do De Marchi (RF Programme Coordin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lef Kosch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io Fav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o Pru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 Taylor (Cha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ivier Witas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ne Asnes (RF represent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fania Carpano (pending agreement of Facul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0" y="304920"/>
            <a:ext cx="101854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304920"/>
            <a:ext cx="101854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Arial"/>
              </a:rPr>
              <a:t>The ESTEC branc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3480" y="1649160"/>
            <a:ext cx="1015992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45720" tIns="50760" bIns="50760" anchor="t">
            <a:normAutofit/>
          </a:bodyPr>
          <a:p>
            <a:pPr marL="44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o the wider ESTEC Faculty is carried out via 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spcBef>
                <a:spcPts val="499"/>
              </a:spcBef>
              <a:buNone/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ell as regular (3-4 month)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pinion and welfare of Research Fellows is highly regarded b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ulty (an RF is a member of council) and is a fixed agenda i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spcBef>
                <a:spcPts val="499"/>
              </a:spcBef>
              <a:buNone/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ESTEC Faculty funds is facilitated by a proposal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5560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% allocation to the Faculty’s science visitor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5560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% to the Seminar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5560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% contin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99"/>
              </a:spcBef>
              <a:buNone/>
              <a:tabLst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schemes of funding are proposed and discussed with the wid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ulty at mee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-33480" y="663480"/>
            <a:ext cx="10185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Arial"/>
              </a:rPr>
              <a:t>The ESTEC branc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"/>
          <p:cNvSpPr/>
          <p:nvPr/>
        </p:nvSpPr>
        <p:spPr>
          <a:xfrm>
            <a:off x="144360" y="144360"/>
            <a:ext cx="70232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144360" y="144360"/>
            <a:ext cx="70232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9904320" cy="4522680"/>
          </a:xfrm>
          <a:prstGeom prst="rect">
            <a:avLst/>
          </a:prstGeom>
          <a:noFill/>
          <a:ln w="0">
            <a:noFill/>
          </a:ln>
        </p:spPr>
        <p:txBody>
          <a:bodyPr lIns="50760" rIns="45720" tIns="50760" bIns="50760" anchor="t">
            <a:normAutofit/>
          </a:bodyPr>
          <a:p>
            <a:pPr lvl="1" marL="576360" indent="0">
              <a:spcBef>
                <a:spcPts val="499"/>
              </a:spcBef>
              <a:buNone/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borees are also held to allow science activities and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 indent="0">
              <a:spcBef>
                <a:spcPts val="499"/>
              </a:spcBef>
              <a:buNone/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advertised among Faculty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5 minute / 1-2 slide presentation of Faculty members scie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 indent="0">
              <a:spcBef>
                <a:spcPts val="499"/>
              </a:spcBef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0">
              <a:spcBef>
                <a:spcPts val="499"/>
              </a:spcBef>
              <a:buNone/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tor program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0">
              <a:spcBef>
                <a:spcPts val="499"/>
              </a:spcBef>
              <a:buNone/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66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- 12 vis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– so far only 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ulty is encouraged to submit proposals for vis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304920"/>
            <a:ext cx="101854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Arial"/>
              </a:rPr>
              <a:t>The ESTEC branc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3800" y="2623680"/>
            <a:ext cx="9651960" cy="1101960"/>
          </a:xfrm>
          <a:prstGeom prst="rect">
            <a:avLst/>
          </a:prstGeom>
          <a:solidFill>
            <a:srgbClr val="fdffc7"/>
          </a:solidFill>
          <a:ln w="0">
            <a:noFill/>
          </a:ln>
        </p:spPr>
        <p:txBody>
          <a:bodyPr lIns="50760" rIns="96840" tIns="50760" bIns="5076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ESAC Bra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A267B900-15C9-4E94-BBFD-C6F8484878DE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1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144360" y="144360"/>
            <a:ext cx="70232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9312120" cy="677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marL="44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ESAC Branch</a:t>
            </a: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6880" y="1577880"/>
            <a:ext cx="9765000" cy="53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SAC Faculty branch consists of nearly 100 peop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cluding ~20 LAEFF research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going ESAC Counc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ing ESAC Counc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uno Altie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uno Altie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d Barrad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AEF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ik Kuulk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dro Garcia-Lari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dro Garcia-L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o Guainazzi (</a:t>
            </a:r>
            <a:r>
              <a:rPr b="1" lang="en-US" sz="2400" spc="-1" strike="noStrike">
                <a:solidFill>
                  <a:srgbClr val="ff3300"/>
                </a:solidFill>
                <a:latin typeface="Chiller"/>
              </a:rPr>
              <a:t>is The Termin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o Guainazz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o Metcalfe (is Sentinel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ter Kretschmar (Sentine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jamin Montesinos Comi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AEF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uel Mas Hess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AEFF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y Pollock (is Excheque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k Cox (R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ia Santos-Lle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rge Sanz Forcad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AEF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1"/>
          <p:cNvSpPr/>
          <p:nvPr/>
        </p:nvSpPr>
        <p:spPr>
          <a:xfrm>
            <a:off x="144360" y="144360"/>
            <a:ext cx="70232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9D8B00F1-8541-46F9-8BAD-82A040B97B20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1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9920" y="1506600"/>
            <a:ext cx="9736200" cy="50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Proto-facul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Ma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1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6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Faculty established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Septemb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3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6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  <a:ea typeface="ヒラギノ明朝 Pro W3"/>
              </a:rPr>
              <a:t>n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. Council Elections ende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Augus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0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Faculty Workshop/Conf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Septemb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05-07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7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X-rays from Nearby Galaxies: 74 participants (12 intern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3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Jamborees (latest Nov. 15 '07 Tot.: 82 spoke/78+ bios on the web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3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18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Council meetings (minutes on web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3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Assemblies (VGs on web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3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63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visitors over past 1.5 years. Stays lasting from days to month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3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3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MEMBERSHIP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75 ESA (Staff + Contractors) &amp; 22 LAEFF Research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684360"/>
            <a:ext cx="93121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 marL="44280" indent="-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ヒラギノ角ゴ Pro W6"/>
              </a:rPr>
              <a:t>The ESAC Branc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1"/>
          <p:cNvSpPr/>
          <p:nvPr/>
        </p:nvSpPr>
        <p:spPr>
          <a:xfrm>
            <a:off x="217440" y="433440"/>
            <a:ext cx="7023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6BFB7905-A45F-436C-AA0C-CF567BCF7899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1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9920" y="1409760"/>
            <a:ext cx="9906120" cy="53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CENTAGE OF BUDGET ALLOCATED PER CATEGORY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Visitors  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Visitors 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Visitor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Established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Ph.D. students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Train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Researchers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&amp;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Post-Docs.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35%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40%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10%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Elite seminar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Mini-Workshop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5%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5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Discretionary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5%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5240" y="215640"/>
            <a:ext cx="7023240" cy="107316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wo Branches - ESAC Branch Funding</a:t>
            </a:r>
            <a:endParaRPr b="1" lang="en-US" sz="2400" spc="-1" strike="noStrike">
              <a:solidFill>
                <a:srgbClr val="0029d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A9F74B15-A186-4FBA-8F0B-E30D714868B2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1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5240" y="610920"/>
            <a:ext cx="9312120" cy="677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ACKNOWLEDGING FUNDING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 Publications</a:t>
            </a:r>
            <a:endParaRPr b="1" lang="en-US" sz="18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32040" y="3030480"/>
            <a:ext cx="8211960" cy="13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2700" spc="-1" strike="noStrike">
                <a:solidFill>
                  <a:srgbClr val="808080"/>
                </a:solidFill>
                <a:latin typeface="Times New Roman"/>
              </a:rPr>
              <a:t>Acknowledgement: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Script MT Bold"/>
              </a:rPr>
              <a:t>We acknowledge support from the Faculty of the European Space Astronomy Centre (ESAC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92320" y="1728720"/>
            <a:ext cx="74880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652320" indent="-5079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and Roles of the Facul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52320" indent="-5079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Branches - Joint Activities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52320" indent="-5079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Bran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52320" indent="-50796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C Bran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2320" indent="-50796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AC Bran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2320" indent="-5079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AutoNum type="arabicPeriod" startAt="4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9960" y="394920"/>
            <a:ext cx="9312480" cy="677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CONTENTS</a:t>
            </a:r>
            <a:endParaRPr b="1" lang="en-US" sz="3400" spc="-1" strike="noStrike">
              <a:solidFill>
                <a:srgbClr val="0029d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1240" y="1293840"/>
            <a:ext cx="9904320" cy="52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507960" indent="-339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Char char="•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culty seems to be reasonably heal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460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actively contributing to scientific life of Depart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460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generally seems appreciated by the scient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46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339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Char char="•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seek innovative ways to spend budg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460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even 150 scientists with long-time-average 10% time for science can only support so many visi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46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339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Char char="•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members support the activities very w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Helvetica"/>
              <a:buChar char="•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339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Char char="•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keep up the moment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9960" y="394920"/>
            <a:ext cx="9312480" cy="677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1" lang="en-US" sz="3400" spc="-1" strike="noStrike">
              <a:solidFill>
                <a:srgbClr val="0029d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6880" y="2801520"/>
            <a:ext cx="9652320" cy="1101960"/>
          </a:xfrm>
          <a:prstGeom prst="rect">
            <a:avLst/>
          </a:prstGeom>
          <a:solidFill>
            <a:srgbClr val="fdffc7"/>
          </a:solidFill>
          <a:ln w="0">
            <a:noFill/>
          </a:ln>
        </p:spPr>
        <p:txBody>
          <a:bodyPr lIns="50760" rIns="96840" tIns="50760" bIns="5076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ctivities and Roles of the Facul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92CB68D7-B60C-4BBD-985C-83B66C65BE28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1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4320" y="33480"/>
            <a:ext cx="78166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6840" tIns="50760" bIns="50760" anchor="ctr">
            <a:noAutofit/>
          </a:bodyPr>
          <a:p>
            <a:pPr marL="44280" indent="-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ACTIVITIES &amp; ROLES of the FACUL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78A1A13A-D0FA-4A30-97D1-634737F887DC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1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0040" y="1577880"/>
            <a:ext cx="91170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sion Statement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oster a (more) effective scientific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ive a united face to the scientific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 constitute the Facul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ctive (i.e. publishing papers) research scientists 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C/ESAC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A staff, RFs, Science Contractors and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ESAC, LAEF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EE79D55C-CA35-4959-9290-A43C3C128C95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1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19240" y="1938240"/>
            <a:ext cx="7535880" cy="42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324000"/>
                <a:tab algn="l" pos="635040"/>
                <a:tab algn="l" pos="84600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STER RESEARCH, SERVING TO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2332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635040"/>
                <a:tab algn="l" pos="84600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maintain expertise, familiarity with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332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635040"/>
                <a:tab algn="l" pos="84600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foster empathy with target commu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332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635040"/>
                <a:tab algn="l" pos="84600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maintain competence to represent commu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332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635040"/>
                <a:tab algn="l" pos="84600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maintain peer respect from commu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324000"/>
                <a:tab algn="l" pos="635040"/>
                <a:tab algn="l" pos="84600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4320" y="33480"/>
            <a:ext cx="78166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6840" tIns="50760" bIns="50760" anchor="ctr">
            <a:noAutofit/>
          </a:bodyPr>
          <a:p>
            <a:pPr marL="44280" indent="-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ACTIVITIES &amp; ROLES of the FACUL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2339E671-824E-4CE4-9A87-E6067A800DDD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1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7240" y="1309680"/>
            <a:ext cx="9217080" cy="55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dminister the scientific Visitor Programm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the RF coordinator in the RF recruitment campaig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rganise Jamborees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minar Programm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rganise Conferences and Workshop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rganise Faculty Assembli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eneral purpose advisory role vis-a-vis management &amp; Scienc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Annual inter-Departmental Science Gathering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biennial Wise People Committee Review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4320" y="33480"/>
            <a:ext cx="78166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6840" tIns="50760" bIns="50760" anchor="ctr">
            <a:noAutofit/>
          </a:bodyPr>
          <a:p>
            <a:pPr marL="44280" indent="-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ACTIVITIES &amp; ROLES of the FACUL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255600" y="-6480"/>
            <a:ext cx="70232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 - Joint Activit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84320" y="1447560"/>
            <a:ext cx="99756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45720" tIns="50760" bIns="50760" anchor="t">
            <a:normAutofit/>
          </a:bodyPr>
          <a:p>
            <a:pPr lvl="1"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rticular, the two branches of the Faculty have worked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mplement the following activit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304920"/>
            <a:ext cx="101854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4200" y="2733840"/>
            <a:ext cx="875880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year RF extens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valuate RF applications (100 last year, 25 Faculty reviewer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partmental Research Proposals scientific evalu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0" y="304920"/>
            <a:ext cx="101854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1600" y="1446120"/>
            <a:ext cx="9217080" cy="36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63600" indent="-270000"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year Research Fellow ext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view by 5 person board of ESAC &amp; ESTEC Faculty memb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imary criteria for review is scientific merit and retur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ommendation of board sent to Divisional management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agement have awarded 8 3rd year extensions so fa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ll move towards a yearly call, in line with new RF intak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1"/>
          <p:cNvSpPr/>
          <p:nvPr/>
        </p:nvSpPr>
        <p:spPr>
          <a:xfrm>
            <a:off x="255600" y="-6480"/>
            <a:ext cx="70232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 - Joint Activit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000" y="280800"/>
            <a:ext cx="7023240" cy="718920"/>
          </a:xfrm>
          <a:prstGeom prst="rect">
            <a:avLst/>
          </a:prstGeom>
          <a:noFill/>
          <a:ln w="0">
            <a:noFill/>
          </a:ln>
        </p:spPr>
        <p:txBody>
          <a:bodyPr lIns="50760" rIns="14256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Joint Activities - RF Recruitment</a:t>
            </a: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480" y="1072800"/>
            <a:ext cx="10159920" cy="5329080"/>
          </a:xfrm>
          <a:prstGeom prst="rect">
            <a:avLst/>
          </a:prstGeom>
          <a:solidFill>
            <a:srgbClr val="fdffc7"/>
          </a:solidFill>
          <a:ln w="0">
            <a:noFill/>
          </a:ln>
        </p:spPr>
        <p:txBody>
          <a:bodyPr lIns="50760" rIns="45720" tIns="50760" bIns="50760" anchor="t">
            <a:normAutofit fontScale="93000"/>
          </a:bodyPr>
          <a:p>
            <a:pPr marL="1476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tising, science evaluation and 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37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e effort from Guido (RF coordinator) to implement new schem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3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ly call, fixed deadlines, transpar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37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result: 84 complete applications received la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3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RFs accepted (+ 1 international traine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37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ulty, management and HR working in harm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37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still room for improvement - e.g. re. time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3720" indent="0">
              <a:spcBef>
                <a:spcPts val="499"/>
              </a:spcBef>
              <a:buNone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76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ca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37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adline for applications 15 October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37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mboree + interview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-4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ember at ESTE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3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-1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ember at ESA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3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ending on candidates geographical prefere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0" y="304920"/>
            <a:ext cx="1018548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9:24:36Z</dcterms:created>
  <dc:creator/>
  <dc:description/>
  <cp:keywords/>
  <dc:language>en-US</dc:language>
  <cp:lastModifiedBy>lmetcalf</cp:lastModifiedBy>
  <dcterms:modified xsi:type="dcterms:W3CDTF">2008-08-26T12:34:49Z</dcterms:modified>
  <cp:revision>36</cp:revision>
  <dc:subject/>
  <dc:title>RSSD Faculty</dc:title>
</cp:coreProperties>
</file>