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CE4-F425-42BF-BAB3-87DE43EF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D25-8FEF-435C-9792-5F5E80FE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79F-8B08-48EC-AD52-9E2DA927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88B-A47E-4734-A117-A0906CF0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B56-CE94-4E4F-BA69-F78E99A3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8EB-A066-455D-BE1E-DDF2EBF8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F7E-C8EE-49B6-AFB3-0C3ABE6E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08C-60DB-48E3-9B2B-7CD1F9FB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051-309C-497F-AE06-AA481487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C93-7645-4DAF-A6B5-6175AFA5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387-09AC-4BA9-B890-F32EB6D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963-5213-49AF-A0FB-DCFC63E6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9D60-F8C9-4D74-8DC3-B6D30F8F3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ies of planetary upper atmosphe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981080"/>
            <a:ext cx="1752480" cy="144792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4495680"/>
            <a:ext cx="1752480" cy="14479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2" idx="4"/>
            <a:endCxn id="43" idx="0"/>
          </p:cNvCxnSpPr>
          <p:nvPr/>
        </p:nvCxnSpPr>
        <p:spPr>
          <a:xfrm>
            <a:off x="6896160" y="3429000"/>
            <a:ext cx="360" cy="10670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525780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us      Mars       Tit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943600" y="57913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7913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324160"/>
            <a:ext cx="3809880" cy="3314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96080" y="54864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812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19920" y="838080"/>
            <a:ext cx="2286000" cy="190512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352680"/>
            <a:ext cx="236232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91440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1"/>
            <a:endCxn id="54" idx="5"/>
          </p:cNvCxnSpPr>
          <p:nvPr/>
        </p:nvCxnSpPr>
        <p:spPr>
          <a:xfrm flipH="1" flipV="1">
            <a:off x="2712600" y="2482560"/>
            <a:ext cx="1062720" cy="1131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2" idx="3"/>
          </p:cNvCxnSpPr>
          <p:nvPr/>
        </p:nvCxnSpPr>
        <p:spPr>
          <a:xfrm flipV="1">
            <a:off x="5444640" y="2471040"/>
            <a:ext cx="910440" cy="1142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4" idx="6"/>
            <a:endCxn id="52" idx="2"/>
          </p:cNvCxnSpPr>
          <p:nvPr/>
        </p:nvCxnSpPr>
        <p:spPr>
          <a:xfrm flipV="1">
            <a:off x="3055680" y="1790280"/>
            <a:ext cx="2956680" cy="3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615120" y="181080"/>
            <a:ext cx="17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19112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sc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2280" y="1906560"/>
            <a:ext cx="4035960" cy="3046320"/>
            <a:chOff x="152280" y="1906560"/>
            <a:chExt cx="4035960" cy="30463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0" t="0" r="15663" b="0"/>
            <a:stretch/>
          </p:blipFill>
          <p:spPr>
            <a:xfrm>
              <a:off x="152280" y="1906560"/>
              <a:ext cx="3840840" cy="30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88120" y="2162520"/>
              <a:ext cx="11520" cy="10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778040" y="3999960"/>
              <a:ext cx="141156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5160" y="3541320"/>
              <a:ext cx="342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99040" y="4053600"/>
              <a:ext cx="8892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SPICAM F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5400" y="3867120"/>
              <a:ext cx="594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Peri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38280" y="459360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M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3440" y="4253040"/>
              <a:ext cx="7642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ermin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67840" y="2808000"/>
              <a:ext cx="191880" cy="66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2720" y="2593440"/>
              <a:ext cx="6030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he S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21880" y="228240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Or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2566440" y="2277000"/>
              <a:ext cx="24120" cy="86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554480" y="3693960"/>
              <a:ext cx="141084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395000" y="338292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252800" y="3073320"/>
              <a:ext cx="141048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121040" y="271188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1080" y="3897720"/>
              <a:ext cx="76680" cy="71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375440" y="2443320"/>
            <a:ext cx="3972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Orbit 716, Nov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hancement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uration 7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574344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did we identify this event as an aur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3750" b="47988"/>
          <a:stretch/>
        </p:blipFill>
        <p:spPr>
          <a:xfrm>
            <a:off x="380880" y="2590920"/>
            <a:ext cx="3962520" cy="2415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579132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3686040" cy="343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99480" y="59436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gnal x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4049" t="3779" r="8369" b="5669"/>
          <a:stretch/>
        </p:blipFill>
        <p:spPr>
          <a:xfrm>
            <a:off x="1371600" y="1981080"/>
            <a:ext cx="6324480" cy="2822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80960" y="586728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spectrum contains signature of daysid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3434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2656" b="0"/>
          <a:stretch/>
        </p:blipFill>
        <p:spPr>
          <a:xfrm>
            <a:off x="1773360" y="1371600"/>
            <a:ext cx="5595840" cy="366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7800" y="5867280"/>
            <a:ext cx="61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ea characterized by crustal magnetic anoma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080040"/>
            <a:ext cx="4572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08004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umerical simulations: low energy electrons are creating the emissions by impacting the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7565760" cy="50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83400" y="1027080"/>
            <a:ext cx="359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spera 3 - MEX Orbite 7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484280"/>
            <a:ext cx="360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Magneto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795400" y="1289160"/>
            <a:ext cx="1261800" cy="33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74720" y="1743120"/>
            <a:ext cx="1672920" cy="23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10240" y="2338560"/>
            <a:ext cx="38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électrons auroraux (Brain et al.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297040" y="2629080"/>
            <a:ext cx="36684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2160" y="450216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"Spik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06640" y="3301920"/>
            <a:ext cx="9586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mmary of my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arth: Early Earth habitability/atmosphere screening (with I. Cnosse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Mars: Ionosphere modeling, MEX UV data analysis (with C. Simon), preparation of the MEX radar ionosphere data analysis (with J. Bau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Titan: Ionosphere modeling, winds derived from ground-based observations (with T. Cive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Venus: Preparation of the VEX drag and aerobraking experiments (with M.L Rihon, G. Roux) ; ionosphere modelling (with M. Helou) ; winds derived from ground-based observa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uropa: instrumental design and simulation of the environment (with F. Ciprian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ier witasse</cp:lastModifiedBy>
  <dcterms:modified xsi:type="dcterms:W3CDTF">2008-08-27T12:09:2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