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jpeg" ContentType="image/jpeg"/>
  <Override PartName="/ppt/media/image2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4.png" ContentType="image/png"/>
  <Override PartName="/ppt/media/image3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70.png" ContentType="image/png"/>
  <Override PartName="/ppt/media/image20.png" ContentType="image/png"/>
  <Override PartName="/ppt/media/image57.png" ContentType="image/png"/>
  <Override PartName="/ppt/media/image31.png" ContentType="image/png"/>
  <Override PartName="/ppt/media/image2.jpeg" ContentType="image/jpeg"/>
  <Override PartName="/ppt/media/image58.png" ContentType="image/png"/>
  <Override PartName="/ppt/media/image67.jpeg" ContentType="image/jpeg"/>
  <Override PartName="/ppt/media/image22.png" ContentType="image/png"/>
  <Override PartName="/ppt/media/image27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77.png" ContentType="image/png"/>
  <Override PartName="/ppt/media/image40.png" ContentType="image/png"/>
  <Override PartName="/ppt/media/image59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76.png" ContentType="image/png"/>
  <Override PartName="/ppt/media/image75.png" ContentType="image/png"/>
  <Override PartName="/ppt/media/image63.png" ContentType="image/png"/>
  <Override PartName="/ppt/media/image73.png" ContentType="image/png"/>
  <Override PartName="/ppt/media/image72.png" ContentType="image/png"/>
  <Override PartName="/ppt/media/image14.png" ContentType="image/png"/>
  <Override PartName="/ppt/media/image71.png" ContentType="image/png"/>
  <Override PartName="/ppt/media/image29.png" ContentType="image/png"/>
  <Override PartName="/ppt/media/image69.jpeg" ContentType="image/jpeg"/>
  <Override PartName="/ppt/media/image24.png" ContentType="image/png"/>
  <Override PartName="/ppt/media/image68.jpeg" ContentType="image/jpeg"/>
  <Override PartName="/ppt/media/image62.png" ContentType="image/png"/>
  <Override PartName="/ppt/media/image61.jpeg" ContentType="image/jpeg"/>
  <Override PartName="/ppt/media/image74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3C7B4-3B07-49A4-8D75-1DD0CB7275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EABED-7C12-4F5D-914E-C281E979BA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49B59-3673-451D-BBDA-E3225D5020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A4257-AC7D-4315-8D05-11A03E5C67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B3FFE-1ED5-4A2D-A35B-3ECCA127BD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2D81A-CD52-4E88-A5EA-82BAD59976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E150D-9CB3-43B2-A311-35FC26B16E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11FAC-8667-461E-9776-8C7F9E0ACA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6836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FC266-9F3F-4026-BB7F-3B18D330CD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"/>
          <p:cNvSpPr/>
          <p:nvPr/>
        </p:nvSpPr>
        <p:spPr>
          <a:xfrm>
            <a:off x="1371600" y="763560"/>
            <a:ext cx="501804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5676D-81A9-4890-98E4-3FA34CEDE0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1371600" y="763560"/>
            <a:ext cx="50259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828D9-4E65-4821-A6F7-DE4781EC60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0EE81-716E-4378-B5CE-5D2986F8B4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"/>
          <p:cNvSpPr/>
          <p:nvPr/>
        </p:nvSpPr>
        <p:spPr>
          <a:xfrm>
            <a:off x="1371600" y="763560"/>
            <a:ext cx="50245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07C07-4457-468A-8908-7DE4F85E89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7942D-0F8C-4232-B7EE-BBC1FBF39D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EE241-053D-4D08-B443-92E4023EAD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BBE8-A6A6-4C53-8000-A692D462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0B10-D5DC-4FD2-B018-E4346D56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505-44E7-4AA1-A909-D37AFAA5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E14-F757-4396-B33C-E092371A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A886-BE8D-4DB0-9DE9-D8BC2B8D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88F-2A4B-48F2-A57D-2DF9C688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742D-0ECB-4012-B97B-1394573B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ACF-48B2-4774-87D1-56DF72EB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F91-43D8-4B79-BCAE-006C9A78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90AC-E575-45C7-BF3C-0054AFAC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4F9-7E47-448E-AEBC-E3E0DD92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D10-71BC-4BC7-9C23-5E2CCAE9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BDA53-9365-4106-98E9-C29FEC2A63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0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20.png"/><Relationship Id="rId35" Type="http://schemas.openxmlformats.org/officeDocument/2006/relationships/image" Target="../media/image38.png"/><Relationship Id="rId36" Type="http://schemas.openxmlformats.org/officeDocument/2006/relationships/image" Target="../media/image39.png"/><Relationship Id="rId37" Type="http://schemas.openxmlformats.org/officeDocument/2006/relationships/image" Target="../media/image40.png"/><Relationship Id="rId38" Type="http://schemas.openxmlformats.org/officeDocument/2006/relationships/image" Target="../media/image41.png"/><Relationship Id="rId39" Type="http://schemas.openxmlformats.org/officeDocument/2006/relationships/image" Target="../media/image42.png"/><Relationship Id="rId40" Type="http://schemas.openxmlformats.org/officeDocument/2006/relationships/image" Target="../media/image43.png"/><Relationship Id="rId41" Type="http://schemas.openxmlformats.org/officeDocument/2006/relationships/image" Target="../media/image44.png"/><Relationship Id="rId42" Type="http://schemas.openxmlformats.org/officeDocument/2006/relationships/image" Target="../media/image45.png"/><Relationship Id="rId43" Type="http://schemas.openxmlformats.org/officeDocument/2006/relationships/image" Target="../media/image46.png"/><Relationship Id="rId44" Type="http://schemas.openxmlformats.org/officeDocument/2006/relationships/image" Target="../media/image47.png"/><Relationship Id="rId45" Type="http://schemas.openxmlformats.org/officeDocument/2006/relationships/image" Target="../media/image48.png"/><Relationship Id="rId46" Type="http://schemas.openxmlformats.org/officeDocument/2006/relationships/image" Target="../media/image49.png"/><Relationship Id="rId47" Type="http://schemas.openxmlformats.org/officeDocument/2006/relationships/image" Target="../media/image50.png"/><Relationship Id="rId48" Type="http://schemas.openxmlformats.org/officeDocument/2006/relationships/image" Target="../media/image51.png"/><Relationship Id="rId49" Type="http://schemas.openxmlformats.org/officeDocument/2006/relationships/image" Target="../media/image52.png"/><Relationship Id="rId50" Type="http://schemas.openxmlformats.org/officeDocument/2006/relationships/image" Target="../media/image53.jpe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-23760" y="228600"/>
            <a:ext cx="101282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Comic Sans MS"/>
              </a:rPr>
              <a:t>CAIX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C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atalogue of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GN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I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n the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X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MM-Newton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rch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05080" y="1914480"/>
            <a:ext cx="3668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Stefano Bianch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492280" y="2712960"/>
            <a:ext cx="5095800" cy="52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2879640" y="3332160"/>
            <a:ext cx="4319640" cy="46836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>
            <a:off x="228600" y="6821640"/>
            <a:ext cx="9601200" cy="1440"/>
          </a:xfrm>
          <a:prstGeom prst="line">
            <a:avLst/>
          </a:prstGeom>
          <a:ln w="18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98320" y="6966000"/>
            <a:ext cx="8883720" cy="457200"/>
          </a:xfrm>
          <a:prstGeom prst="rect">
            <a:avLst/>
          </a:prstGeom>
          <a:solidFill>
            <a:srgbClr val="ff8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'Inter Departmental Science Workshop' – ESTEC - 28/29</a:t>
            </a:r>
            <a:r>
              <a:rPr b="1" lang="en-US" sz="1800" spc="-1" strike="noStrike" baseline="33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August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2401920" y="4476600"/>
            <a:ext cx="5273640" cy="1801440"/>
            <a:chOff x="2401920" y="4476600"/>
            <a:chExt cx="5273640" cy="1801440"/>
          </a:xfrm>
        </p:grpSpPr>
        <p:sp>
          <p:nvSpPr>
            <p:cNvPr id="57" name="Text Box 8"/>
            <p:cNvSpPr/>
            <p:nvPr/>
          </p:nvSpPr>
          <p:spPr>
            <a:xfrm>
              <a:off x="2401920" y="4476600"/>
              <a:ext cx="2541600" cy="17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Nuria Fonseca Boni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Matteo Guainazz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Giorgio Mat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Gabriele Pont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" name="Group 9"/>
            <p:cNvGrpSpPr/>
            <p:nvPr/>
          </p:nvGrpSpPr>
          <p:grpSpPr>
            <a:xfrm>
              <a:off x="5162400" y="4716360"/>
              <a:ext cx="2513160" cy="1561680"/>
              <a:chOff x="5162400" y="4716360"/>
              <a:chExt cx="2513160" cy="1561680"/>
            </a:xfrm>
          </p:grpSpPr>
          <p:pic>
            <p:nvPicPr>
              <p:cNvPr id="5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162400" y="4716360"/>
                <a:ext cx="251316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5390640" y="5556600"/>
                <a:ext cx="205596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90560" y="5869080"/>
                <a:ext cx="456840" cy="40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162400" y="5110920"/>
                <a:ext cx="251316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1"/>
          <p:cNvGrpSpPr/>
          <p:nvPr/>
        </p:nvGrpSpPr>
        <p:grpSpPr>
          <a:xfrm>
            <a:off x="169920" y="120600"/>
            <a:ext cx="9845640" cy="5552640"/>
            <a:chOff x="169920" y="120600"/>
            <a:chExt cx="9845640" cy="5552640"/>
          </a:xfrm>
        </p:grpSpPr>
        <p:grpSp>
          <p:nvGrpSpPr>
            <p:cNvPr id="201" name="Group 2"/>
            <p:cNvGrpSpPr/>
            <p:nvPr/>
          </p:nvGrpSpPr>
          <p:grpSpPr>
            <a:xfrm>
              <a:off x="169920" y="120600"/>
              <a:ext cx="9845640" cy="5282640"/>
              <a:chOff x="169920" y="120600"/>
              <a:chExt cx="9845640" cy="5282640"/>
            </a:xfrm>
          </p:grpSpPr>
          <p:pic>
            <p:nvPicPr>
              <p:cNvPr id="202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920" y="380520"/>
                <a:ext cx="9845640" cy="502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AutoShape 4"/>
              <p:cNvSpPr/>
              <p:nvPr/>
            </p:nvSpPr>
            <p:spPr>
              <a:xfrm>
                <a:off x="2238120" y="120600"/>
                <a:ext cx="571212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log(EW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Fe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=(1.73±0.03) + (-0.17±0.03) log(L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X,44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r>
                  <a:rPr b="1" lang="ar-SA" sz="18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4" name="AutoShape 5"/>
            <p:cNvSpPr/>
            <p:nvPr/>
          </p:nvSpPr>
          <p:spPr>
            <a:xfrm>
              <a:off x="7191360" y="5216400"/>
              <a:ext cx="2743200" cy="456840"/>
            </a:xfrm>
            <a:prstGeom prst="roundRect">
              <a:avLst>
                <a:gd name="adj" fmla="val 16667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Bianchi et al. 200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AutoShape 6"/>
          <p:cNvSpPr/>
          <p:nvPr/>
        </p:nvSpPr>
        <p:spPr>
          <a:xfrm>
            <a:off x="228600" y="5943600"/>
            <a:ext cx="96012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CAIX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The IT effect is highly signific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156 data points (81 measures, 75 upper limits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ρ=-0.33 - P=4x10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228600" y="5257800"/>
            <a:ext cx="4114800" cy="457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ianchi et al., 2007, A&amp;A, 467, L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"/>
          <p:cNvGrpSpPr/>
          <p:nvPr/>
        </p:nvGrpSpPr>
        <p:grpSpPr>
          <a:xfrm>
            <a:off x="1371600" y="2286000"/>
            <a:ext cx="7536960" cy="5229000"/>
            <a:chOff x="1371600" y="2286000"/>
            <a:chExt cx="7536960" cy="5229000"/>
          </a:xfrm>
        </p:grpSpPr>
        <p:grpSp>
          <p:nvGrpSpPr>
            <p:cNvPr id="208" name="Group 2"/>
            <p:cNvGrpSpPr/>
            <p:nvPr/>
          </p:nvGrpSpPr>
          <p:grpSpPr>
            <a:xfrm>
              <a:off x="1371600" y="2550960"/>
              <a:ext cx="7536960" cy="4964040"/>
              <a:chOff x="1371600" y="2550960"/>
              <a:chExt cx="7536960" cy="4964040"/>
            </a:xfrm>
          </p:grpSpPr>
          <p:pic>
            <p:nvPicPr>
              <p:cNvPr id="209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1600" y="2550960"/>
                <a:ext cx="7014960" cy="473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AutoShape 4"/>
              <p:cNvSpPr/>
              <p:nvPr/>
            </p:nvSpPr>
            <p:spPr>
              <a:xfrm>
                <a:off x="6166080" y="7058160"/>
                <a:ext cx="27424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Bianchi et al. 200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AutoShape 5"/>
            <p:cNvSpPr/>
            <p:nvPr/>
          </p:nvSpPr>
          <p:spPr>
            <a:xfrm>
              <a:off x="2141640" y="2286000"/>
              <a:ext cx="571500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log(EW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Fe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=(1.61±0.05) + (-0.19±0.05) log(L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bol/Edd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1" lang="ar-SA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AutoShape 6"/>
          <p:cNvSpPr/>
          <p:nvPr/>
        </p:nvSpPr>
        <p:spPr>
          <a:xfrm>
            <a:off x="239760" y="228600"/>
            <a:ext cx="9601200" cy="1828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anti-correlation of the EW with the Eddington ratio is highly signific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2 data points (50 measures, 32 upper limits)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ρ=-0.38 – P=6x10</a:t>
            </a:r>
            <a:r>
              <a:rPr b="0" lang="en-GB" sz="1800" spc="-1" strike="noStrike" baseline="33000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ill significant if a constant bolometric correction is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"/>
          <p:cNvGrpSpPr/>
          <p:nvPr/>
        </p:nvGrpSpPr>
        <p:grpSpPr>
          <a:xfrm>
            <a:off x="1457280" y="2286000"/>
            <a:ext cx="7159320" cy="5070240"/>
            <a:chOff x="1457280" y="2286000"/>
            <a:chExt cx="7159320" cy="5070240"/>
          </a:xfrm>
        </p:grpSpPr>
        <p:grpSp>
          <p:nvGrpSpPr>
            <p:cNvPr id="214" name="Group 2"/>
            <p:cNvGrpSpPr/>
            <p:nvPr/>
          </p:nvGrpSpPr>
          <p:grpSpPr>
            <a:xfrm>
              <a:off x="1457280" y="2550960"/>
              <a:ext cx="7159320" cy="4805280"/>
              <a:chOff x="1457280" y="2550960"/>
              <a:chExt cx="7159320" cy="4805280"/>
            </a:xfrm>
          </p:grpSpPr>
          <p:pic>
            <p:nvPicPr>
              <p:cNvPr id="215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57280" y="2550960"/>
                <a:ext cx="6786720" cy="450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AutoShape 4"/>
              <p:cNvSpPr/>
              <p:nvPr/>
            </p:nvSpPr>
            <p:spPr>
              <a:xfrm>
                <a:off x="5874120" y="6899400"/>
                <a:ext cx="27424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Bianchi et al. 200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" name="AutoShape 5"/>
            <p:cNvSpPr/>
            <p:nvPr/>
          </p:nvSpPr>
          <p:spPr>
            <a:xfrm>
              <a:off x="1994040" y="2286000"/>
              <a:ext cx="571500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log(EW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Fe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=(1.73±0.04) + (-0.07±0.04) log(L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BH,8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1" lang="ar-SA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AutoShape 6"/>
          <p:cNvSpPr/>
          <p:nvPr/>
        </p:nvSpPr>
        <p:spPr>
          <a:xfrm>
            <a:off x="11160" y="120600"/>
            <a:ext cx="10058400" cy="1828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No significant dependence of the iron EW on the BH mass is appar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82 data points (50 measures, 32 upper limits)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ρ=-0.15 – P=0.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1"/>
          <p:cNvSpPr/>
          <p:nvPr/>
        </p:nvSpPr>
        <p:spPr>
          <a:xfrm>
            <a:off x="816120" y="108000"/>
            <a:ext cx="8447040" cy="685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Comic Sans MS"/>
              </a:rPr>
              <a:t>Luminosity-dependent covering factor of the toru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2"/>
          <p:cNvSpPr/>
          <p:nvPr/>
        </p:nvSpPr>
        <p:spPr>
          <a:xfrm>
            <a:off x="811080" y="985680"/>
            <a:ext cx="8458200" cy="2057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Most of the iron line flux comes from the torus, not the BL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e.g. Bianchi et al. 2004, Nandra 2006)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IT effect is mainly driven by the X-ray luminosity (or Eddington ratio),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NOT the BH m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239760" y="3271680"/>
            <a:ext cx="9601200" cy="20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most likely explanation is in terms 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a luminosity-dependent covering factor of the tor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is is in agreement with models which predict an increase of the opening angle of the torus with luminosity due to disc-driven winds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Konigl &amp; Kartje 1994)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468360" y="5557680"/>
            <a:ext cx="91440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nterestingly,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this implies a decrease of the fraction of obscured AGN with luminos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s observed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Ueda et al. 2003; La Franca et al. 2005)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lbeit in Compton-thin sour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2735280" y="-27000"/>
            <a:ext cx="46101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2"/>
          <p:cNvSpPr/>
          <p:nvPr/>
        </p:nvSpPr>
        <p:spPr>
          <a:xfrm>
            <a:off x="125280" y="976320"/>
            <a:ext cx="9829800" cy="10810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e presented CAIXA, a Catalogue of AGN In the XMM-Newton Arch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t consists of all the radio-quiet X-ray unobscured AGN observed by XMM-Newton in targeted observations, whose data are public as of March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385920" y="2154240"/>
            <a:ext cx="9307440" cy="914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strong correlations are found between the X-ray and radio luminosity, but the role of distance may be domin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239760" y="3189240"/>
            <a:ext cx="9601200" cy="1200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very strong anti-correlation between the FWHM of H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and the ratio between the soft and the hard X-ray luminosity is present in CAIXA. In particular, our catalogue does not contain narrow-line objects with a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0.5-2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/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2-10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atio lower than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500040" y="4541760"/>
            <a:ext cx="907884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trong correlation between the X-ray luminosity and the BH mass has a slope flatter than 1, suggesting that high-luminosity objects may be X-ray wea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239760" y="5380200"/>
            <a:ext cx="9601200" cy="12492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anti-correlation between the excess variance and the X-ray luminosity is very significant and likely driven by the BH 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ignificant anti-correlation between the excess variance and the FWHM of the 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ggests an intrinsic difference in the variability of the two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1515960" y="6751800"/>
            <a:ext cx="7048440" cy="6858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Iwasawa-Taniguchi effect is highly signific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2789280" y="6103800"/>
            <a:ext cx="120600" cy="1224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"/>
          <p:cNvGrpSpPr/>
          <p:nvPr/>
        </p:nvGrpSpPr>
        <p:grpSpPr>
          <a:xfrm>
            <a:off x="50760" y="0"/>
            <a:ext cx="7580520" cy="2886120"/>
            <a:chOff x="50760" y="0"/>
            <a:chExt cx="7580520" cy="2886120"/>
          </a:xfrm>
        </p:grpSpPr>
        <p:pic>
          <p:nvPicPr>
            <p:cNvPr id="65" name="Picture 3" descr=""/>
            <p:cNvPicPr/>
            <p:nvPr/>
          </p:nvPicPr>
          <p:blipFill>
            <a:blip r:embed="rId2"/>
            <a:stretch/>
          </p:blipFill>
          <p:spPr>
            <a:xfrm>
              <a:off x="4049640" y="0"/>
              <a:ext cx="358164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AutoShape 4"/>
            <p:cNvSpPr/>
            <p:nvPr/>
          </p:nvSpPr>
          <p:spPr>
            <a:xfrm>
              <a:off x="50760" y="135000"/>
              <a:ext cx="3922920" cy="234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8ff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ctive Galactic Nucleu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Strong (L~10</a:t>
              </a:r>
              <a:r>
                <a:rPr b="1" lang="en-GB" sz="2400" spc="-1" strike="noStrike" baseline="30000">
                  <a:solidFill>
                    <a:srgbClr val="000000"/>
                  </a:solidFill>
                  <a:latin typeface="Comic Sans MS"/>
                </a:rPr>
                <a:t>42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r>
                <a:rPr b="1" lang="en-GB" sz="2400" spc="-1" strike="noStrike" baseline="30000">
                  <a:solidFill>
                    <a:srgbClr val="000000"/>
                  </a:solidFill>
                  <a:latin typeface="Comic Sans MS"/>
                </a:rPr>
                <a:t>46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 erg s</a:t>
              </a:r>
              <a:r>
                <a:rPr b="1" lang="en-GB" sz="24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) non-stellar emission from the central regions (nuclei) of some galaxies</a:t>
              </a:r>
              <a:r>
                <a:rPr b="0" lang="cs-CZ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506520" y="4840200"/>
            <a:ext cx="4748040" cy="2475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4"/>
          <a:stretch/>
        </p:blipFill>
        <p:spPr>
          <a:xfrm>
            <a:off x="2678040" y="5686560"/>
            <a:ext cx="371520" cy="322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5"/>
          <a:stretch/>
        </p:blipFill>
        <p:spPr>
          <a:xfrm>
            <a:off x="3048120" y="558468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6"/>
          <a:stretch/>
        </p:blipFill>
        <p:spPr>
          <a:xfrm>
            <a:off x="2467080" y="5935680"/>
            <a:ext cx="120600" cy="11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7"/>
          <a:stretch/>
        </p:blipFill>
        <p:spPr>
          <a:xfrm>
            <a:off x="3090960" y="5908680"/>
            <a:ext cx="120600" cy="146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8"/>
          <a:stretch/>
        </p:blipFill>
        <p:spPr>
          <a:xfrm>
            <a:off x="2700360" y="5965920"/>
            <a:ext cx="120600" cy="122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"/>
          <p:cNvPicPr/>
          <p:nvPr/>
        </p:nvPicPr>
        <p:blipFill>
          <a:blip r:embed="rId9"/>
          <a:stretch/>
        </p:blipFill>
        <p:spPr>
          <a:xfrm>
            <a:off x="2901960" y="597528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"/>
          <p:cNvPicPr/>
          <p:nvPr/>
        </p:nvPicPr>
        <p:blipFill>
          <a:blip r:embed="rId10"/>
          <a:stretch/>
        </p:blipFill>
        <p:spPr>
          <a:xfrm>
            <a:off x="2409840" y="573552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"/>
          <p:cNvPicPr/>
          <p:nvPr/>
        </p:nvPicPr>
        <p:blipFill>
          <a:blip r:embed="rId11"/>
          <a:stretch/>
        </p:blipFill>
        <p:spPr>
          <a:xfrm>
            <a:off x="3255840" y="562608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"/>
          <p:cNvPicPr/>
          <p:nvPr/>
        </p:nvPicPr>
        <p:blipFill>
          <a:blip r:embed="rId12"/>
          <a:stretch/>
        </p:blipFill>
        <p:spPr>
          <a:xfrm>
            <a:off x="3152880" y="5756400"/>
            <a:ext cx="120600" cy="1220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2550960" y="62452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6" descr=""/>
          <p:cNvPicPr/>
          <p:nvPr/>
        </p:nvPicPr>
        <p:blipFill>
          <a:blip r:embed="rId13"/>
          <a:stretch/>
        </p:blipFill>
        <p:spPr>
          <a:xfrm>
            <a:off x="2585880" y="5637240"/>
            <a:ext cx="120960" cy="122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"/>
          <p:cNvPicPr/>
          <p:nvPr/>
        </p:nvPicPr>
        <p:blipFill>
          <a:blip r:embed="rId14"/>
          <a:stretch/>
        </p:blipFill>
        <p:spPr>
          <a:xfrm>
            <a:off x="2448000" y="5526000"/>
            <a:ext cx="120600" cy="123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"/>
          <p:cNvPicPr/>
          <p:nvPr/>
        </p:nvPicPr>
        <p:blipFill>
          <a:blip r:embed="rId15"/>
          <a:stretch/>
        </p:blipFill>
        <p:spPr>
          <a:xfrm>
            <a:off x="2523960" y="3081240"/>
            <a:ext cx="285840" cy="31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"/>
          <p:cNvPicPr/>
          <p:nvPr/>
        </p:nvPicPr>
        <p:blipFill>
          <a:blip r:embed="rId16"/>
          <a:stretch/>
        </p:blipFill>
        <p:spPr>
          <a:xfrm>
            <a:off x="4414680" y="4678200"/>
            <a:ext cx="287640" cy="319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"/>
          <p:cNvPicPr/>
          <p:nvPr/>
        </p:nvPicPr>
        <p:blipFill>
          <a:blip r:embed="rId17"/>
          <a:stretch/>
        </p:blipFill>
        <p:spPr>
          <a:xfrm>
            <a:off x="2284560" y="4756320"/>
            <a:ext cx="287280" cy="317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"/>
          <p:cNvPicPr/>
          <p:nvPr/>
        </p:nvPicPr>
        <p:blipFill>
          <a:blip r:embed="rId18"/>
          <a:stretch/>
        </p:blipFill>
        <p:spPr>
          <a:xfrm>
            <a:off x="3106800" y="4757760"/>
            <a:ext cx="295200" cy="336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"/>
          <p:cNvPicPr/>
          <p:nvPr/>
        </p:nvPicPr>
        <p:blipFill>
          <a:blip r:embed="rId19"/>
          <a:stretch/>
        </p:blipFill>
        <p:spPr>
          <a:xfrm>
            <a:off x="4835520" y="528804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3" descr=""/>
          <p:cNvPicPr/>
          <p:nvPr/>
        </p:nvPicPr>
        <p:blipFill>
          <a:blip r:embed="rId20"/>
          <a:stretch/>
        </p:blipFill>
        <p:spPr>
          <a:xfrm>
            <a:off x="2638440" y="4370400"/>
            <a:ext cx="285840" cy="31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"/>
          <p:cNvPicPr/>
          <p:nvPr/>
        </p:nvPicPr>
        <p:blipFill>
          <a:blip r:embed="rId21"/>
          <a:stretch/>
        </p:blipFill>
        <p:spPr>
          <a:xfrm>
            <a:off x="4657680" y="398304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5" descr=""/>
          <p:cNvPicPr/>
          <p:nvPr/>
        </p:nvPicPr>
        <p:blipFill>
          <a:blip r:embed="rId22"/>
          <a:stretch/>
        </p:blipFill>
        <p:spPr>
          <a:xfrm>
            <a:off x="4869000" y="470052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"/>
          <p:cNvPicPr/>
          <p:nvPr/>
        </p:nvPicPr>
        <p:blipFill>
          <a:blip r:embed="rId23"/>
          <a:stretch/>
        </p:blipFill>
        <p:spPr>
          <a:xfrm>
            <a:off x="4179960" y="416736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7" descr=""/>
          <p:cNvPicPr/>
          <p:nvPr/>
        </p:nvPicPr>
        <p:blipFill>
          <a:blip r:embed="rId24"/>
          <a:stretch/>
        </p:blipFill>
        <p:spPr>
          <a:xfrm>
            <a:off x="3751200" y="325584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8" descr=""/>
          <p:cNvPicPr/>
          <p:nvPr/>
        </p:nvPicPr>
        <p:blipFill>
          <a:blip r:embed="rId25"/>
          <a:stretch/>
        </p:blipFill>
        <p:spPr>
          <a:xfrm>
            <a:off x="3606840" y="396072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9" descr=""/>
          <p:cNvPicPr/>
          <p:nvPr/>
        </p:nvPicPr>
        <p:blipFill>
          <a:blip r:embed="rId26"/>
          <a:stretch/>
        </p:blipFill>
        <p:spPr>
          <a:xfrm>
            <a:off x="3090960" y="4249800"/>
            <a:ext cx="288720" cy="320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0" descr=""/>
          <p:cNvPicPr/>
          <p:nvPr/>
        </p:nvPicPr>
        <p:blipFill>
          <a:blip r:embed="rId27"/>
          <a:stretch/>
        </p:blipFill>
        <p:spPr>
          <a:xfrm>
            <a:off x="2803680" y="5504040"/>
            <a:ext cx="120600" cy="122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1" descr=""/>
          <p:cNvPicPr/>
          <p:nvPr/>
        </p:nvPicPr>
        <p:blipFill>
          <a:blip r:embed="rId28"/>
          <a:stretch/>
        </p:blipFill>
        <p:spPr>
          <a:xfrm>
            <a:off x="960480" y="37116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2" descr=""/>
          <p:cNvPicPr/>
          <p:nvPr/>
        </p:nvPicPr>
        <p:blipFill>
          <a:blip r:embed="rId29"/>
          <a:stretch/>
        </p:blipFill>
        <p:spPr>
          <a:xfrm>
            <a:off x="4297320" y="359568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3" descr=""/>
          <p:cNvPicPr/>
          <p:nvPr/>
        </p:nvPicPr>
        <p:blipFill>
          <a:blip r:embed="rId30"/>
          <a:stretch/>
        </p:blipFill>
        <p:spPr>
          <a:xfrm>
            <a:off x="3025800" y="357012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4" descr=""/>
          <p:cNvPicPr/>
          <p:nvPr/>
        </p:nvPicPr>
        <p:blipFill>
          <a:blip r:embed="rId31"/>
          <a:stretch/>
        </p:blipFill>
        <p:spPr>
          <a:xfrm>
            <a:off x="3726000" y="46674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5" descr=""/>
          <p:cNvPicPr/>
          <p:nvPr/>
        </p:nvPicPr>
        <p:blipFill>
          <a:blip r:embed="rId32"/>
          <a:stretch/>
        </p:blipFill>
        <p:spPr>
          <a:xfrm>
            <a:off x="4156200" y="516744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6" descr=""/>
          <p:cNvPicPr/>
          <p:nvPr/>
        </p:nvPicPr>
        <p:blipFill>
          <a:blip r:embed="rId33"/>
          <a:stretch/>
        </p:blipFill>
        <p:spPr>
          <a:xfrm>
            <a:off x="1182600" y="431784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7" descr=""/>
          <p:cNvPicPr/>
          <p:nvPr/>
        </p:nvPicPr>
        <p:blipFill>
          <a:blip r:embed="rId34"/>
          <a:stretch/>
        </p:blipFill>
        <p:spPr>
          <a:xfrm>
            <a:off x="2525760" y="3081240"/>
            <a:ext cx="285840" cy="317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8" descr=""/>
          <p:cNvPicPr/>
          <p:nvPr/>
        </p:nvPicPr>
        <p:blipFill>
          <a:blip r:embed="rId35"/>
          <a:stretch/>
        </p:blipFill>
        <p:spPr>
          <a:xfrm>
            <a:off x="3257640" y="3173400"/>
            <a:ext cx="290520" cy="320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9" descr=""/>
          <p:cNvPicPr/>
          <p:nvPr/>
        </p:nvPicPr>
        <p:blipFill>
          <a:blip r:embed="rId36"/>
          <a:stretch/>
        </p:blipFill>
        <p:spPr>
          <a:xfrm>
            <a:off x="514440" y="499752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0" descr=""/>
          <p:cNvPicPr/>
          <p:nvPr/>
        </p:nvPicPr>
        <p:blipFill>
          <a:blip r:embed="rId37"/>
          <a:stretch/>
        </p:blipFill>
        <p:spPr>
          <a:xfrm>
            <a:off x="1674720" y="31860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1" descr=""/>
          <p:cNvPicPr/>
          <p:nvPr/>
        </p:nvPicPr>
        <p:blipFill>
          <a:blip r:embed="rId38"/>
          <a:stretch/>
        </p:blipFill>
        <p:spPr>
          <a:xfrm>
            <a:off x="1530360" y="389088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2" descr=""/>
          <p:cNvPicPr/>
          <p:nvPr/>
        </p:nvPicPr>
        <p:blipFill>
          <a:blip r:embed="rId39"/>
          <a:stretch/>
        </p:blipFill>
        <p:spPr>
          <a:xfrm>
            <a:off x="2220840" y="35244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3" descr=""/>
          <p:cNvPicPr/>
          <p:nvPr/>
        </p:nvPicPr>
        <p:blipFill>
          <a:blip r:embed="rId40"/>
          <a:stretch/>
        </p:blipFill>
        <p:spPr>
          <a:xfrm>
            <a:off x="1182600" y="310356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4" descr=""/>
          <p:cNvPicPr/>
          <p:nvPr/>
        </p:nvPicPr>
        <p:blipFill>
          <a:blip r:embed="rId41"/>
          <a:stretch/>
        </p:blipFill>
        <p:spPr>
          <a:xfrm>
            <a:off x="1522440" y="4913280"/>
            <a:ext cx="285840" cy="318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5" descr=""/>
          <p:cNvPicPr/>
          <p:nvPr/>
        </p:nvPicPr>
        <p:blipFill>
          <a:blip r:embed="rId42"/>
          <a:stretch/>
        </p:blipFill>
        <p:spPr>
          <a:xfrm>
            <a:off x="588960" y="44118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6" descr=""/>
          <p:cNvPicPr/>
          <p:nvPr/>
        </p:nvPicPr>
        <p:blipFill>
          <a:blip r:embed="rId43"/>
          <a:stretch/>
        </p:blipFill>
        <p:spPr>
          <a:xfrm>
            <a:off x="1019160" y="483084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7" descr=""/>
          <p:cNvPicPr/>
          <p:nvPr/>
        </p:nvPicPr>
        <p:blipFill>
          <a:blip r:embed="rId44"/>
          <a:stretch/>
        </p:blipFill>
        <p:spPr>
          <a:xfrm>
            <a:off x="1171440" y="5227560"/>
            <a:ext cx="287640" cy="319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8" descr=""/>
          <p:cNvPicPr/>
          <p:nvPr/>
        </p:nvPicPr>
        <p:blipFill>
          <a:blip r:embed="rId45"/>
          <a:stretch/>
        </p:blipFill>
        <p:spPr>
          <a:xfrm>
            <a:off x="3056040" y="541800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9" descr=""/>
          <p:cNvPicPr/>
          <p:nvPr/>
        </p:nvPicPr>
        <p:blipFill>
          <a:blip r:embed="rId46"/>
          <a:stretch/>
        </p:blipFill>
        <p:spPr>
          <a:xfrm>
            <a:off x="2644920" y="5440320"/>
            <a:ext cx="120600" cy="130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0" descr=""/>
          <p:cNvPicPr/>
          <p:nvPr/>
        </p:nvPicPr>
        <p:blipFill>
          <a:blip r:embed="rId47"/>
          <a:stretch/>
        </p:blipFill>
        <p:spPr>
          <a:xfrm>
            <a:off x="2077920" y="411948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1" descr=""/>
          <p:cNvPicPr/>
          <p:nvPr/>
        </p:nvPicPr>
        <p:blipFill>
          <a:blip r:embed="rId48"/>
          <a:stretch/>
        </p:blipFill>
        <p:spPr>
          <a:xfrm>
            <a:off x="1731960" y="4443480"/>
            <a:ext cx="289080" cy="31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2" descr=""/>
          <p:cNvPicPr/>
          <p:nvPr/>
        </p:nvPicPr>
        <p:blipFill>
          <a:blip r:embed="rId49"/>
          <a:stretch/>
        </p:blipFill>
        <p:spPr>
          <a:xfrm>
            <a:off x="2579760" y="3911760"/>
            <a:ext cx="287280" cy="317520"/>
          </a:xfrm>
          <a:prstGeom prst="rect">
            <a:avLst/>
          </a:prstGeom>
          <a:ln w="0">
            <a:noFill/>
          </a:ln>
        </p:spPr>
      </p:pic>
      <p:sp>
        <p:nvSpPr>
          <p:cNvPr id="115" name="Oval 53"/>
          <p:cNvSpPr/>
          <p:nvPr/>
        </p:nvSpPr>
        <p:spPr>
          <a:xfrm>
            <a:off x="1832040" y="3537000"/>
            <a:ext cx="803160" cy="344520"/>
          </a:xfrm>
          <a:prstGeom prst="ellipse">
            <a:avLst/>
          </a:prstGeom>
          <a:solidFill>
            <a:srgbClr val="00cc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L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54"/>
          <p:cNvSpPr/>
          <p:nvPr/>
        </p:nvSpPr>
        <p:spPr>
          <a:xfrm>
            <a:off x="1944720" y="5370480"/>
            <a:ext cx="803160" cy="343080"/>
          </a:xfrm>
          <a:prstGeom prst="ellipse">
            <a:avLst/>
          </a:prstGeom>
          <a:solidFill>
            <a:srgbClr val="00cc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5"/>
          <p:cNvSpPr/>
          <p:nvPr/>
        </p:nvSpPr>
        <p:spPr>
          <a:xfrm>
            <a:off x="2287440" y="64468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2"/>
          <p:cNvSpPr/>
          <p:nvPr/>
        </p:nvSpPr>
        <p:spPr>
          <a:xfrm>
            <a:off x="6259680" y="6218280"/>
            <a:ext cx="312876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29833"/>
              <a:gd name="adj6" fmla="val -106259"/>
            </a:avLst>
          </a:prstGeom>
          <a:solidFill>
            <a:srgbClr val="ff0000"/>
          </a:solidFill>
          <a:ln w="1836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MBH + accretion dis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nvert gravitational energy into radi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66"/>
          <p:cNvGrpSpPr/>
          <p:nvPr/>
        </p:nvGrpSpPr>
        <p:grpSpPr>
          <a:xfrm>
            <a:off x="3061800" y="3093120"/>
            <a:ext cx="6768000" cy="2850480"/>
            <a:chOff x="3061800" y="3093120"/>
            <a:chExt cx="6768000" cy="2850480"/>
          </a:xfrm>
        </p:grpSpPr>
        <p:grpSp>
          <p:nvGrpSpPr>
            <p:cNvPr id="120" name="Group 65"/>
            <p:cNvGrpSpPr/>
            <p:nvPr/>
          </p:nvGrpSpPr>
          <p:grpSpPr>
            <a:xfrm>
              <a:off x="3061800" y="3093120"/>
              <a:ext cx="5625000" cy="2442600"/>
              <a:chOff x="3061800" y="3093120"/>
              <a:chExt cx="5625000" cy="2442600"/>
            </a:xfrm>
          </p:grpSpPr>
          <p:pic>
            <p:nvPicPr>
              <p:cNvPr id="121" name="Picture 56" descr=""/>
              <p:cNvPicPr/>
              <p:nvPr/>
            </p:nvPicPr>
            <p:blipFill>
              <a:blip r:embed="rId50"/>
              <a:stretch/>
            </p:blipFill>
            <p:spPr>
              <a:xfrm>
                <a:off x="5449680" y="3436920"/>
                <a:ext cx="3237120" cy="1135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2" name="Group 57"/>
              <p:cNvGrpSpPr/>
              <p:nvPr/>
            </p:nvGrpSpPr>
            <p:grpSpPr>
              <a:xfrm>
                <a:off x="4737240" y="3093120"/>
                <a:ext cx="626400" cy="594000"/>
                <a:chOff x="4737240" y="3093120"/>
                <a:chExt cx="626400" cy="594000"/>
              </a:xfrm>
            </p:grpSpPr>
            <p:sp>
              <p:nvSpPr>
                <p:cNvPr id="123" name="Freeform 58"/>
                <p:cNvSpPr/>
                <p:nvPr/>
              </p:nvSpPr>
              <p:spPr>
                <a:xfrm rot="19560000">
                  <a:off x="4800600" y="3200040"/>
                  <a:ext cx="499680" cy="379440"/>
                </a:xfrm>
                <a:prstGeom prst="pie">
                  <a:avLst/>
                </a:prstGeom>
                <a:noFill/>
                <a:ln w="309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59"/>
                <p:cNvSpPr/>
                <p:nvPr/>
              </p:nvSpPr>
              <p:spPr>
                <a:xfrm rot="19560000">
                  <a:off x="4880160" y="3362040"/>
                  <a:ext cx="61200" cy="292680"/>
                </a:xfrm>
                <a:prstGeom prst="pie">
                  <a:avLst/>
                </a:prstGeom>
                <a:noFill/>
                <a:ln w="18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Text Box 60"/>
              <p:cNvSpPr/>
              <p:nvPr/>
            </p:nvSpPr>
            <p:spPr>
              <a:xfrm>
                <a:off x="5702040" y="3138480"/>
                <a:ext cx="2954520" cy="26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6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omic Sans MS"/>
                  </a:rPr>
                  <a:t>Type 1/Unobscured AG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Line 61"/>
              <p:cNvSpPr/>
              <p:nvPr/>
            </p:nvSpPr>
            <p:spPr>
              <a:xfrm flipH="1">
                <a:off x="3061800" y="3657600"/>
                <a:ext cx="1739880" cy="18781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" name="AutoShape 63"/>
            <p:cNvSpPr/>
            <p:nvPr/>
          </p:nvSpPr>
          <p:spPr>
            <a:xfrm>
              <a:off x="5486400" y="4800600"/>
              <a:ext cx="4343400" cy="11430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ptical spectrum rich of emission lin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broad (from BLR)</a:t>
              </a:r>
              <a:r>
                <a:rPr b="1" lang="ar-SA" sz="1800" spc="-1" strike="noStrike" u="sng">
                  <a:solidFill>
                    <a:srgbClr val="000000"/>
                  </a:solidFill>
                  <a:uFillTx/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arrow (from NLR)</a:t>
              </a:r>
              <a:r>
                <a:rPr b="0" lang="ar-SA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AutoShape 64"/>
          <p:cNvSpPr/>
          <p:nvPr/>
        </p:nvSpPr>
        <p:spPr>
          <a:xfrm>
            <a:off x="7707240" y="228600"/>
            <a:ext cx="2351160" cy="2743200"/>
          </a:xfrm>
          <a:custGeom>
            <a:avLst/>
            <a:gdLst>
              <a:gd name="textAreaLeft" fmla="*/ 114480 w 2351160"/>
              <a:gd name="textAreaRight" fmla="*/ 2236680 w 2351160"/>
              <a:gd name="textAreaTop" fmla="*/ 114480 h 2743200"/>
              <a:gd name="textAreaBottom" fmla="*/ 2628720 h 2743200"/>
            </a:gdLst>
            <a:ahLst/>
            <a:rect l="textAreaLeft" t="textAreaTop" r="textAreaRight" b="textAreaBottom"/>
            <a:pathLst>
              <a:path w="21600" h="25201">
                <a:moveTo>
                  <a:pt x="3600" y="0"/>
                </a:moveTo>
                <a:arcTo wR="3600" hR="3600" stAng="16200000" swAng="-5400000"/>
                <a:lnTo>
                  <a:pt x="0" y="21601"/>
                </a:lnTo>
                <a:arcTo wR="3600" hR="3600" stAng="10800000" swAng="-5400000"/>
                <a:lnTo>
                  <a:pt x="18000" y="252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Classif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sar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yfe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ab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=-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rrow-line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WHM(H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BLR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&lt;2000 k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2151000" y="5835600"/>
            <a:ext cx="420840" cy="379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4630680"/>
            <a:ext cx="5378400" cy="2928960"/>
          </a:xfrm>
          <a:prstGeom prst="rect">
            <a:avLst/>
          </a:prstGeom>
          <a:ln w="0">
            <a:noFill/>
          </a:ln>
        </p:spPr>
      </p:pic>
      <p:sp>
        <p:nvSpPr>
          <p:cNvPr id="131" name="Freeform 3"/>
          <p:cNvSpPr/>
          <p:nvPr/>
        </p:nvSpPr>
        <p:spPr>
          <a:xfrm>
            <a:off x="1384200" y="3660840"/>
            <a:ext cx="1708200" cy="155880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1152360" y="4276440"/>
            <a:ext cx="8561160" cy="2830320"/>
            <a:chOff x="1152360" y="4276440"/>
            <a:chExt cx="8561160" cy="2830320"/>
          </a:xfrm>
        </p:grpSpPr>
        <p:grpSp>
          <p:nvGrpSpPr>
            <p:cNvPr id="133" name="Group 5"/>
            <p:cNvGrpSpPr/>
            <p:nvPr/>
          </p:nvGrpSpPr>
          <p:grpSpPr>
            <a:xfrm>
              <a:off x="1152360" y="4276440"/>
              <a:ext cx="4310640" cy="1731600"/>
              <a:chOff x="1152360" y="4276440"/>
              <a:chExt cx="4310640" cy="1731600"/>
            </a:xfrm>
          </p:grpSpPr>
          <p:sp>
            <p:nvSpPr>
              <p:cNvPr id="134" name="Line 6"/>
              <p:cNvSpPr/>
              <p:nvPr/>
            </p:nvSpPr>
            <p:spPr>
              <a:xfrm flipH="1" flipV="1">
                <a:off x="1169640" y="5709600"/>
                <a:ext cx="1053360" cy="29844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"/>
              <p:cNvSpPr/>
              <p:nvPr/>
            </p:nvSpPr>
            <p:spPr>
              <a:xfrm flipV="1">
                <a:off x="1152360" y="4276440"/>
                <a:ext cx="4310640" cy="144252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36" name="Picture 8" descr=""/>
            <p:cNvPicPr/>
            <p:nvPr/>
          </p:nvPicPr>
          <p:blipFill>
            <a:blip r:embed="rId3"/>
            <a:stretch/>
          </p:blipFill>
          <p:spPr>
            <a:xfrm>
              <a:off x="5639400" y="4350960"/>
              <a:ext cx="4074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9"/>
          <p:cNvGrpSpPr/>
          <p:nvPr/>
        </p:nvGrpSpPr>
        <p:grpSpPr>
          <a:xfrm>
            <a:off x="69840" y="868320"/>
            <a:ext cx="4073400" cy="5035320"/>
            <a:chOff x="69840" y="868320"/>
            <a:chExt cx="4073400" cy="5035320"/>
          </a:xfrm>
        </p:grpSpPr>
        <p:sp>
          <p:nvSpPr>
            <p:cNvPr id="138" name="Line 10"/>
            <p:cNvSpPr/>
            <p:nvPr/>
          </p:nvSpPr>
          <p:spPr>
            <a:xfrm flipV="1">
              <a:off x="2334240" y="3654360"/>
              <a:ext cx="1080" cy="22492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9" name="Picture 11" descr=""/>
            <p:cNvPicPr/>
            <p:nvPr/>
          </p:nvPicPr>
          <p:blipFill>
            <a:blip r:embed="rId4"/>
            <a:stretch/>
          </p:blipFill>
          <p:spPr>
            <a:xfrm>
              <a:off x="69840" y="868320"/>
              <a:ext cx="4073400" cy="273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Freeform 12"/>
          <p:cNvSpPr/>
          <p:nvPr/>
        </p:nvSpPr>
        <p:spPr>
          <a:xfrm>
            <a:off x="1552680" y="3652920"/>
            <a:ext cx="1630080" cy="1465200"/>
          </a:xfrm>
          <a:prstGeom prst="pi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Freeform 13"/>
          <p:cNvSpPr/>
          <p:nvPr/>
        </p:nvSpPr>
        <p:spPr>
          <a:xfrm>
            <a:off x="2084400" y="5770440"/>
            <a:ext cx="566640" cy="289080"/>
          </a:xfrm>
          <a:prstGeom prst="pie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243080" y="6114960"/>
            <a:ext cx="917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r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4859280" y="4680"/>
            <a:ext cx="4105440" cy="620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ype 1 AGN in X-r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22"/>
          <p:cNvGrpSpPr/>
          <p:nvPr/>
        </p:nvGrpSpPr>
        <p:grpSpPr>
          <a:xfrm>
            <a:off x="2387520" y="884160"/>
            <a:ext cx="6787800" cy="5034960"/>
            <a:chOff x="2387520" y="884160"/>
            <a:chExt cx="6787800" cy="5034960"/>
          </a:xfrm>
        </p:grpSpPr>
        <p:grpSp>
          <p:nvGrpSpPr>
            <p:cNvPr id="145" name="Group 15"/>
            <p:cNvGrpSpPr/>
            <p:nvPr/>
          </p:nvGrpSpPr>
          <p:grpSpPr>
            <a:xfrm>
              <a:off x="2387520" y="1196640"/>
              <a:ext cx="6787800" cy="4722480"/>
              <a:chOff x="2387520" y="1196640"/>
              <a:chExt cx="6787800" cy="4722480"/>
            </a:xfrm>
          </p:grpSpPr>
          <p:grpSp>
            <p:nvGrpSpPr>
              <p:cNvPr id="146" name="Group 16"/>
              <p:cNvGrpSpPr/>
              <p:nvPr/>
            </p:nvGrpSpPr>
            <p:grpSpPr>
              <a:xfrm>
                <a:off x="2473200" y="1196640"/>
                <a:ext cx="6702120" cy="4722480"/>
                <a:chOff x="2473200" y="1196640"/>
                <a:chExt cx="6702120" cy="4722480"/>
              </a:xfrm>
            </p:grpSpPr>
            <p:sp>
              <p:nvSpPr>
                <p:cNvPr id="147" name="Line 17"/>
                <p:cNvSpPr/>
                <p:nvPr/>
              </p:nvSpPr>
              <p:spPr>
                <a:xfrm flipV="1">
                  <a:off x="2473200" y="2765520"/>
                  <a:ext cx="2318760" cy="31536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48" name="Picture 1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101560" y="1196640"/>
                  <a:ext cx="4073760" cy="2729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9" name="Line 19"/>
              <p:cNvSpPr/>
              <p:nvPr/>
            </p:nvSpPr>
            <p:spPr>
              <a:xfrm>
                <a:off x="2387520" y="5838480"/>
                <a:ext cx="5580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" name="AutoShape 21"/>
            <p:cNvSpPr/>
            <p:nvPr/>
          </p:nvSpPr>
          <p:spPr>
            <a:xfrm>
              <a:off x="5279760" y="884160"/>
              <a:ext cx="379908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e FERO: A.L. Longinotti's tal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1"/>
          <p:cNvSpPr/>
          <p:nvPr/>
        </p:nvSpPr>
        <p:spPr>
          <a:xfrm>
            <a:off x="1154160" y="157320"/>
            <a:ext cx="7772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IX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 Catalogue of AGN in the XMM-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Newton Arch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228600" y="1574640"/>
            <a:ext cx="9829800" cy="32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156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radio-quiet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AGN in targeted XMM-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Newton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pn observation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&gt;200 counts in either of the (rest-frame) bands of 0.5-2 and 2-10 ke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&lt;1% pile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log(R)&lt;1 (quasar) – log(R)&lt;2.4 and log(R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)&lt;-2.755 (Seyfert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&lt;2x10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457200" y="5087880"/>
            <a:ext cx="9144000" cy="1828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6 and 20 cm fluxes (~100% of the catalog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Hβ FWHM (64% of the catalog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H mass (52% of the mass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Luminosity dependent bolometric correction (Marconi et al. 2004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6400800" y="7077240"/>
            <a:ext cx="3657600" cy="473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Bianchi et al., A&amp;A sub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71280" y="120600"/>
            <a:ext cx="51958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rrelations X-ray/radio e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Shape 10"/>
          <p:cNvCxnSpPr>
            <a:stCxn id="157" idx="2"/>
          </p:cNvCxnSpPr>
          <p:nvPr/>
        </p:nvCxnSpPr>
        <p:spPr>
          <a:xfrm flipH="1" rot="16200000">
            <a:off x="3611160" y="1283760"/>
            <a:ext cx="381960" cy="278208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grpSp>
        <p:nvGrpSpPr>
          <p:cNvPr id="158" name="Group 13"/>
          <p:cNvGrpSpPr/>
          <p:nvPr/>
        </p:nvGrpSpPr>
        <p:grpSpPr>
          <a:xfrm>
            <a:off x="11160" y="184320"/>
            <a:ext cx="9982080" cy="4572000"/>
            <a:chOff x="11160" y="184320"/>
            <a:chExt cx="9982080" cy="4572000"/>
          </a:xfrm>
        </p:grpSpPr>
        <p:pic>
          <p:nvPicPr>
            <p:cNvPr id="159" name="Picture 1" descr=""/>
            <p:cNvPicPr/>
            <p:nvPr/>
          </p:nvPicPr>
          <p:blipFill>
            <a:blip r:embed="rId1"/>
            <a:stretch/>
          </p:blipFill>
          <p:spPr>
            <a:xfrm>
              <a:off x="5421240" y="18432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AutoShape 3"/>
            <p:cNvSpPr/>
            <p:nvPr/>
          </p:nvSpPr>
          <p:spPr>
            <a:xfrm>
              <a:off x="11160" y="884160"/>
              <a:ext cx="4800600" cy="16002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Very strong correlations are found between the hard (or soft) X-ray luminosity and the radio luminos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(at 6 or 20 cm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0" name="Elbow Connector 12"/>
            <p:cNvCxnSpPr>
              <a:stCxn id="157" idx="3"/>
            </p:cNvCxnSpPr>
            <p:nvPr/>
          </p:nvCxnSpPr>
          <p:spPr>
            <a:xfrm>
              <a:off x="4811400" y="1684440"/>
              <a:ext cx="610200" cy="78624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ffc000"/>
              </a:solidFill>
              <a:miter/>
            </a:ln>
          </p:spPr>
        </p:cxnSp>
      </p:grpSp>
      <p:grpSp>
        <p:nvGrpSpPr>
          <p:cNvPr id="161" name="Group 16"/>
          <p:cNvGrpSpPr/>
          <p:nvPr/>
        </p:nvGrpSpPr>
        <p:grpSpPr>
          <a:xfrm>
            <a:off x="239760" y="2941560"/>
            <a:ext cx="9753480" cy="4496040"/>
            <a:chOff x="239760" y="2941560"/>
            <a:chExt cx="9753480" cy="4496040"/>
          </a:xfrm>
        </p:grpSpPr>
        <p:sp>
          <p:nvSpPr>
            <p:cNvPr id="162" name="AutoShape 4"/>
            <p:cNvSpPr/>
            <p:nvPr/>
          </p:nvSpPr>
          <p:spPr>
            <a:xfrm>
              <a:off x="5421240" y="5151600"/>
              <a:ext cx="4572000" cy="2286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Although the correlations are still very strong even when the effect of distance is taken into account via a partial Kendall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 test, a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scrambling test</a:t>
              </a: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 based on 100 000 simulated datasets suggests that the 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role of distance may be domina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3" name="Picture 5" descr=""/>
            <p:cNvPicPr/>
            <p:nvPr/>
          </p:nvPicPr>
          <p:blipFill>
            <a:blip r:embed="rId2"/>
            <a:stretch/>
          </p:blipFill>
          <p:spPr>
            <a:xfrm>
              <a:off x="239760" y="2941560"/>
              <a:ext cx="4419360" cy="4420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64" name="Elbow Connector 15"/>
            <p:cNvCxnSpPr>
              <a:endCxn id="162" idx="1"/>
            </p:cNvCxnSpPr>
            <p:nvPr/>
          </p:nvCxnSpPr>
          <p:spPr>
            <a:xfrm>
              <a:off x="4659120" y="5151240"/>
              <a:ext cx="762480" cy="1143720"/>
            </a:xfrm>
            <a:prstGeom prst="bentConnector3">
              <a:avLst>
                <a:gd name="adj1" fmla="val 49976"/>
              </a:avLst>
            </a:prstGeom>
            <a:ln w="25560">
              <a:solidFill>
                <a:srgbClr val="ff0000"/>
              </a:solidFill>
              <a:miter/>
            </a:ln>
          </p:spPr>
        </p:cxn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9"/>
          <p:cNvGrpSpPr/>
          <p:nvPr/>
        </p:nvGrpSpPr>
        <p:grpSpPr>
          <a:xfrm>
            <a:off x="1614600" y="1792440"/>
            <a:ext cx="6851520" cy="5517720"/>
            <a:chOff x="1614600" y="1792440"/>
            <a:chExt cx="6851520" cy="5517720"/>
          </a:xfrm>
        </p:grpSpPr>
        <p:grpSp>
          <p:nvGrpSpPr>
            <p:cNvPr id="166" name="Group 2"/>
            <p:cNvGrpSpPr/>
            <p:nvPr/>
          </p:nvGrpSpPr>
          <p:grpSpPr>
            <a:xfrm>
              <a:off x="1614600" y="1792440"/>
              <a:ext cx="6851520" cy="5517720"/>
              <a:chOff x="1614600" y="1792440"/>
              <a:chExt cx="6851520" cy="5517720"/>
            </a:xfrm>
          </p:grpSpPr>
          <p:pic>
            <p:nvPicPr>
              <p:cNvPr id="167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5560" y="2120400"/>
                <a:ext cx="5709240" cy="518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AutoShape 4"/>
              <p:cNvSpPr/>
              <p:nvPr/>
            </p:nvSpPr>
            <p:spPr>
              <a:xfrm>
                <a:off x="1614600" y="1792440"/>
                <a:ext cx="6851520" cy="54720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log(L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0.5-2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/L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2-10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=(0.14±0.03) + (-0.60±0.08) log(Hβ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FWHM,2000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r>
                  <a:rPr b="1" lang="ar-SA" sz="18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AutoShape 8"/>
            <p:cNvSpPr/>
            <p:nvPr/>
          </p:nvSpPr>
          <p:spPr>
            <a:xfrm rot="16200000">
              <a:off x="6181920" y="5021280"/>
              <a:ext cx="3657600" cy="473040"/>
            </a:xfrm>
            <a:prstGeom prst="roundRect">
              <a:avLst>
                <a:gd name="adj" fmla="val 16667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5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Comic Sans MS"/>
                </a:rPr>
                <a:t>Bianchi et al., A&amp;A subm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AutoShape 1"/>
          <p:cNvSpPr/>
          <p:nvPr/>
        </p:nvSpPr>
        <p:spPr>
          <a:xfrm>
            <a:off x="228600" y="36360"/>
            <a:ext cx="96012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An anti-correlation bewtween the 0.5-2/2-10 luminosity ratio and the Hβ FWHM is highly signific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93 data points (90 measures, 3 upper limits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ρ=-0.64 - P=6x10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-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10"/>
          <p:cNvGrpSpPr/>
          <p:nvPr/>
        </p:nvGrpSpPr>
        <p:grpSpPr>
          <a:xfrm>
            <a:off x="228600" y="2514600"/>
            <a:ext cx="4572000" cy="4343400"/>
            <a:chOff x="228600" y="2514600"/>
            <a:chExt cx="4572000" cy="4343400"/>
          </a:xfrm>
        </p:grpSpPr>
        <p:sp>
          <p:nvSpPr>
            <p:cNvPr id="172" name="Oval 5"/>
            <p:cNvSpPr/>
            <p:nvPr/>
          </p:nvSpPr>
          <p:spPr>
            <a:xfrm>
              <a:off x="2743200" y="2514600"/>
              <a:ext cx="2057400" cy="2971800"/>
            </a:xfrm>
            <a:prstGeom prst="ellipse">
              <a:avLst/>
            </a:prstGeom>
            <a:noFill/>
            <a:ln w="18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228600" y="4800600"/>
              <a:ext cx="1828800" cy="20574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2057400"/>
                <a:gd name="textAreaBottom" fmla="*/ 1968120 h 2057400"/>
              </a:gdLst>
              <a:ahLst/>
              <a:rect l="textAreaLeft" t="textAreaTop" r="textAreaRight" b="textAreaBottom"/>
              <a:pathLst>
                <a:path w="21600" h="24299">
                  <a:moveTo>
                    <a:pt x="3600" y="0"/>
                  </a:moveTo>
                  <a:arcTo wR="3600" hR="3600" stAng="16200000" swAng="-5400000"/>
                  <a:lnTo>
                    <a:pt x="0" y="20699"/>
                  </a:lnTo>
                  <a:arcTo wR="3600" hR="3600" stAng="10800000" swAng="-5400000"/>
                  <a:lnTo>
                    <a:pt x="18000" y="242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Narrow-lin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object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1" lang="en-GB" sz="2000" spc="-1" strike="noStrike" baseline="-33000">
                  <a:solidFill>
                    <a:srgbClr val="000000"/>
                  </a:solidFill>
                  <a:latin typeface="Comic Sans MS"/>
                </a:rPr>
                <a:t>0.5-2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/L</a:t>
              </a:r>
              <a:r>
                <a:rPr b="1" lang="en-GB" sz="2000" spc="-1" strike="noStrike" baseline="-33000">
                  <a:solidFill>
                    <a:srgbClr val="000000"/>
                  </a:solidFill>
                  <a:latin typeface="Comic Sans MS"/>
                </a:rPr>
                <a:t>2-10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&gt;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 flipH="1" rot="10800000">
              <a:off x="912600" y="3212640"/>
              <a:ext cx="1828800" cy="16002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5943600" y="27000"/>
            <a:ext cx="4084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rrelations with BH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87480" y="122400"/>
            <a:ext cx="6781680" cy="3657600"/>
            <a:chOff x="87480" y="122400"/>
            <a:chExt cx="6781680" cy="3657600"/>
          </a:xfrm>
        </p:grpSpPr>
        <p:pic>
          <p:nvPicPr>
            <p:cNvPr id="177" name="Picture 1" descr=""/>
            <p:cNvPicPr/>
            <p:nvPr/>
          </p:nvPicPr>
          <p:blipFill>
            <a:blip r:embed="rId1"/>
            <a:stretch/>
          </p:blipFill>
          <p:spPr>
            <a:xfrm>
              <a:off x="87480" y="122400"/>
              <a:ext cx="36576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AutoShape 5"/>
            <p:cNvSpPr/>
            <p:nvPr/>
          </p:nvSpPr>
          <p:spPr>
            <a:xfrm>
              <a:off x="3821400" y="503280"/>
              <a:ext cx="3047760" cy="3048120"/>
            </a:xfrm>
            <a:custGeom>
              <a:avLst/>
              <a:gdLst>
                <a:gd name="textAreaLeft" fmla="*/ 148680 w 3047760"/>
                <a:gd name="textAreaRight" fmla="*/ 2899080 w 3047760"/>
                <a:gd name="textAreaTop" fmla="*/ 148680 h 3048120"/>
                <a:gd name="textAreaBottom" fmla="*/ 2899440 h 3048120"/>
              </a:gdLst>
              <a:ahLst/>
              <a:rect l="textAreaLeft" t="textAreaTop" r="textAreaRight" b="textAreaBottom"/>
              <a:pathLst>
                <a:path w="21600" h="21603">
                  <a:moveTo>
                    <a:pt x="3600" y="0"/>
                  </a:moveTo>
                  <a:arcTo wR="3600" hR="3600" stAng="16200000" swAng="-5400000"/>
                  <a:lnTo>
                    <a:pt x="0" y="18003"/>
                  </a:lnTo>
                  <a:arcTo wR="3600" hR="3600" stAng="10800000" swAng="-5400000"/>
                  <a:lnTo>
                    <a:pt x="18000" y="216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e strong correlation between the X-ray luminosity and the BH mass has a slope flatter than 1, suggesting that 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high-luminosity objects may be X-ray weak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12"/>
          <p:cNvGrpSpPr/>
          <p:nvPr/>
        </p:nvGrpSpPr>
        <p:grpSpPr>
          <a:xfrm>
            <a:off x="6335640" y="503280"/>
            <a:ext cx="3657600" cy="6858000"/>
            <a:chOff x="6335640" y="503280"/>
            <a:chExt cx="3657600" cy="6858000"/>
          </a:xfrm>
        </p:grpSpPr>
        <p:sp>
          <p:nvSpPr>
            <p:cNvPr id="180" name="AutoShape 6"/>
            <p:cNvSpPr/>
            <p:nvPr/>
          </p:nvSpPr>
          <p:spPr>
            <a:xfrm>
              <a:off x="7021440" y="503280"/>
              <a:ext cx="2895840" cy="3048120"/>
            </a:xfrm>
            <a:custGeom>
              <a:avLst/>
              <a:gdLst>
                <a:gd name="textAreaLeft" fmla="*/ 141120 w 2895840"/>
                <a:gd name="textAreaRight" fmla="*/ 2754720 w 2895840"/>
                <a:gd name="textAreaTop" fmla="*/ 141120 h 3048120"/>
                <a:gd name="textAreaBottom" fmla="*/ 2907000 h 3048120"/>
              </a:gdLst>
              <a:ahLst/>
              <a:rect l="textAreaLeft" t="textAreaTop" r="textAreaRight" b="textAreaBottom"/>
              <a:pathLst>
                <a:path w="21600" h="22736">
                  <a:moveTo>
                    <a:pt x="3600" y="0"/>
                  </a:moveTo>
                  <a:arcTo wR="3600" hR="3600" stAng="16200000" swAng="-5400000"/>
                  <a:lnTo>
                    <a:pt x="0" y="19136"/>
                  </a:lnTo>
                  <a:arcTo wR="3600" hR="3600" stAng="10800000" swAng="-5400000"/>
                  <a:lnTo>
                    <a:pt x="18000" y="227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 luminosity dependent bolometric factor could explain this result, but the one proposed by Marconi (2004) seems too strong at high luminos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1" name="Picture 3" descr=""/>
            <p:cNvPicPr/>
            <p:nvPr/>
          </p:nvPicPr>
          <p:blipFill>
            <a:blip r:embed="rId2"/>
            <a:stretch/>
          </p:blipFill>
          <p:spPr>
            <a:xfrm>
              <a:off x="6335640" y="3703680"/>
              <a:ext cx="3657600" cy="365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11"/>
          <p:cNvGrpSpPr/>
          <p:nvPr/>
        </p:nvGrpSpPr>
        <p:grpSpPr>
          <a:xfrm>
            <a:off x="87480" y="3703680"/>
            <a:ext cx="6248160" cy="3657600"/>
            <a:chOff x="87480" y="3703680"/>
            <a:chExt cx="6248160" cy="3657600"/>
          </a:xfrm>
        </p:grpSpPr>
        <p:pic>
          <p:nvPicPr>
            <p:cNvPr id="183" name="Picture 2" descr=""/>
            <p:cNvPicPr/>
            <p:nvPr/>
          </p:nvPicPr>
          <p:blipFill>
            <a:blip r:embed="rId3"/>
            <a:stretch/>
          </p:blipFill>
          <p:spPr>
            <a:xfrm>
              <a:off x="2678040" y="3703680"/>
              <a:ext cx="36576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AutoShape 7"/>
            <p:cNvSpPr/>
            <p:nvPr/>
          </p:nvSpPr>
          <p:spPr>
            <a:xfrm>
              <a:off x="87480" y="3932280"/>
              <a:ext cx="2449440" cy="3383280"/>
            </a:xfrm>
            <a:custGeom>
              <a:avLst/>
              <a:gdLst>
                <a:gd name="textAreaLeft" fmla="*/ 119520 w 2449440"/>
                <a:gd name="textAreaRight" fmla="*/ 2329920 w 2449440"/>
                <a:gd name="textAreaTop" fmla="*/ 119520 h 3383280"/>
                <a:gd name="textAreaBottom" fmla="*/ 3263760 h 3383280"/>
              </a:gdLst>
              <a:ahLst/>
              <a:rect l="textAreaLeft" t="textAreaTop" r="textAreaRight" b="textAreaBottom"/>
              <a:pathLst>
                <a:path w="21600" h="29834">
                  <a:moveTo>
                    <a:pt x="3600" y="0"/>
                  </a:moveTo>
                  <a:arcTo wR="3600" hR="3600" stAng="16200000" swAng="-5400000"/>
                  <a:lnTo>
                    <a:pt x="0" y="26234"/>
                  </a:lnTo>
                  <a:arcTo wR="3600" hR="3600" stAng="10800000" swAng="-5400000"/>
                  <a:lnTo>
                    <a:pt x="18000" y="298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A linear relation is recovered when using radio luminosity, suggesting that the intrinsic total power of AGN indeed scales linearly with BH ma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71280" y="120600"/>
            <a:ext cx="2394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Timing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8"/>
          <p:cNvGrpSpPr/>
          <p:nvPr/>
        </p:nvGrpSpPr>
        <p:grpSpPr>
          <a:xfrm>
            <a:off x="11160" y="71280"/>
            <a:ext cx="9975960" cy="3659400"/>
            <a:chOff x="11160" y="71280"/>
            <a:chExt cx="9975960" cy="3659400"/>
          </a:xfrm>
        </p:grpSpPr>
        <p:pic>
          <p:nvPicPr>
            <p:cNvPr id="187" name="Picture 7" descr="variability_lx.jpg"/>
            <p:cNvPicPr/>
            <p:nvPr/>
          </p:nvPicPr>
          <p:blipFill>
            <a:blip r:embed="rId1"/>
            <a:stretch/>
          </p:blipFill>
          <p:spPr>
            <a:xfrm>
              <a:off x="2754360" y="72720"/>
              <a:ext cx="3657600" cy="365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3" descr=""/>
            <p:cNvPicPr/>
            <p:nvPr/>
          </p:nvPicPr>
          <p:blipFill>
            <a:blip r:embed="rId2"/>
            <a:stretch/>
          </p:blipFill>
          <p:spPr>
            <a:xfrm>
              <a:off x="6329520" y="71280"/>
              <a:ext cx="3657600" cy="365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AutoShape 5"/>
            <p:cNvSpPr/>
            <p:nvPr/>
          </p:nvSpPr>
          <p:spPr>
            <a:xfrm>
              <a:off x="11160" y="655200"/>
              <a:ext cx="2666880" cy="3009960"/>
            </a:xfrm>
            <a:custGeom>
              <a:avLst/>
              <a:gdLst>
                <a:gd name="textAreaLeft" fmla="*/ 129960 w 2666880"/>
                <a:gd name="textAreaRight" fmla="*/ 2536920 w 2666880"/>
                <a:gd name="textAreaTop" fmla="*/ 129960 h 3009960"/>
                <a:gd name="textAreaBottom" fmla="*/ 2880000 h 3009960"/>
              </a:gdLst>
              <a:ahLst/>
              <a:rect l="textAreaLeft" t="textAreaTop" r="textAreaRight" b="textAreaBottom"/>
              <a:pathLst>
                <a:path w="21600" h="24378">
                  <a:moveTo>
                    <a:pt x="3600" y="0"/>
                  </a:moveTo>
                  <a:arcTo wR="3600" hR="3600" stAng="16200000" swAng="-5400000"/>
                  <a:lnTo>
                    <a:pt x="0" y="20778"/>
                  </a:lnTo>
                  <a:arcTo wR="3600" hR="3600" stAng="10800000" swAng="-5400000"/>
                  <a:lnTo>
                    <a:pt x="18000" y="243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n anti-correlation between the excess variance and the X-ray luminosity is very significant in our data, but it is likely driven by the anti-correlation between the excess variance and the BH ma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Group 9"/>
          <p:cNvGrpSpPr/>
          <p:nvPr/>
        </p:nvGrpSpPr>
        <p:grpSpPr>
          <a:xfrm>
            <a:off x="228600" y="3728880"/>
            <a:ext cx="9764640" cy="3657600"/>
            <a:chOff x="228600" y="3728880"/>
            <a:chExt cx="9764640" cy="3657600"/>
          </a:xfrm>
        </p:grpSpPr>
        <p:pic>
          <p:nvPicPr>
            <p:cNvPr id="191" name="Picture 4" descr=""/>
            <p:cNvPicPr/>
            <p:nvPr/>
          </p:nvPicPr>
          <p:blipFill>
            <a:blip r:embed="rId3"/>
            <a:stretch/>
          </p:blipFill>
          <p:spPr>
            <a:xfrm>
              <a:off x="6335640" y="3728880"/>
              <a:ext cx="36576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AutoShape 6"/>
            <p:cNvSpPr/>
            <p:nvPr/>
          </p:nvSpPr>
          <p:spPr>
            <a:xfrm>
              <a:off x="228600" y="4008240"/>
              <a:ext cx="5943600" cy="330696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e significant anti-correlation between the excess variance and the FWHM of the H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is a clear piece of evidence in favour of an intrinsic difference in the variability behaviours of the two class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owever, this difference seems not to be driven by the Eddington rate, which appears completely uncorrelated with the excess variance in CAIX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/>
          <p:cNvSpPr/>
          <p:nvPr/>
        </p:nvSpPr>
        <p:spPr>
          <a:xfrm>
            <a:off x="84240" y="84240"/>
            <a:ext cx="525780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X-ray Baldwin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(Iwasawa-Taniguchi effect)</a:t>
            </a:r>
            <a:r>
              <a:rPr b="0" lang="ar-SA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228600" y="3657600"/>
            <a:ext cx="4800600" cy="297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significance of this effect was questioned b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Jiménez-Bailón et al. (2005) in their analysis of XMM-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Newton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data of PG quasars, pointing out the importance of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Comic Sans MS"/>
              </a:rPr>
              <a:t>contamination from radio-loud obje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228600" y="1143000"/>
            <a:ext cx="9601200" cy="6307200"/>
            <a:chOff x="228600" y="1143000"/>
            <a:chExt cx="9601200" cy="6307200"/>
          </a:xfrm>
        </p:grpSpPr>
        <p:sp>
          <p:nvSpPr>
            <p:cNvPr id="196" name="AutoShape 1"/>
            <p:cNvSpPr/>
            <p:nvPr/>
          </p:nvSpPr>
          <p:spPr>
            <a:xfrm>
              <a:off x="228600" y="1143000"/>
              <a:ext cx="9601200" cy="182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1076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 1993, Iwasawa &amp; Taniguchi presented an anti-correlation between the iron Kα emission line and the 2-10 keV luminosity, according to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Comic Sans MS"/>
                </a:rPr>
                <a:t>Ginga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 observations of 37 AGN. This 'Iwasawa-Taniguchi effect' (IT effect) was then found in a lar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1076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ample of objects observed by XMM-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Comic Sans MS"/>
                </a:rPr>
                <a:t>Newton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, giving a relation between luminosity and EW) of the narrow core of the Fe Kα as EW</a:t>
              </a: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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 L</a:t>
              </a:r>
              <a:r>
                <a:rPr b="0" lang="en-GB" sz="1800" spc="-1" strike="noStrike" baseline="33000">
                  <a:solidFill>
                    <a:srgbClr val="000000"/>
                  </a:solidFill>
                  <a:latin typeface="Comic Sans MS"/>
                </a:rPr>
                <a:t>-0.17±0.08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 (Page et al. 2004)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Group 4"/>
            <p:cNvGrpSpPr/>
            <p:nvPr/>
          </p:nvGrpSpPr>
          <p:grpSpPr>
            <a:xfrm>
              <a:off x="5154480" y="3171960"/>
              <a:ext cx="4672440" cy="4278240"/>
              <a:chOff x="5154480" y="3171960"/>
              <a:chExt cx="4672440" cy="4278240"/>
            </a:xfrm>
          </p:grpSpPr>
          <p:pic>
            <p:nvPicPr>
              <p:cNvPr id="198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154480" y="3171960"/>
                <a:ext cx="4268880" cy="427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AutoShape 6"/>
              <p:cNvSpPr/>
              <p:nvPr/>
            </p:nvSpPr>
            <p:spPr>
              <a:xfrm flipH="1" rot="16200000">
                <a:off x="7999920" y="5217120"/>
                <a:ext cx="31960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wasawa &amp; Taniguchi 199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o Bianchi</dc:creator>
  <dc:description/>
  <dc:language>en-US</dc:language>
  <cp:lastModifiedBy>Stefano Bianchi</cp:lastModifiedBy>
  <dcterms:modified xsi:type="dcterms:W3CDTF">2008-08-26T17:35:35Z</dcterms:modified>
  <cp:revision>27</cp:revision>
  <dc:subject/>
  <dc:title>Slide 1</dc:title>
</cp:coreProperties>
</file>