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7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33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57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33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57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7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SA Interdepartmental workshop, ESTEC, 28-29 Aug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te of the fragments of comet 73P/Schwassmann-Wachmann 3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ichael 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üppers, ESAC, MP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. Boehnhardt, M. Drahus, M. Rengel, MP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. Hainaut, E. Jehin, ESO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. Lara, IA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42670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tary splittings and SW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: What’s left after a few month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and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s B and C were clearly detected, no other fragments f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 B was about 100 times fainter than fragment C, all undiscovered fragments more than 10 times fainter than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ppearance of fragment G in agreement with HS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ing a bare nucleus with an albedo of 0.04, upper limit of the diameter are 500 m for fragment B and 100m for fragment G (preliminary, proper photometry to be d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mass of the progenitor comet rests in fragment 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pid decrease in brightness of fragments B and G is due to decreased activity and/or decreased size after the repeated fragmentation of those fragments before perihe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f the  smaller fragments may not have survived due to further fragmentation or complete subli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photometry to improve upper size li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for </a:t>
            </a:r>
            <a:r>
              <a:rPr b="1" lang="en-US" sz="3200" spc="-1" strike="noStrike">
                <a:solidFill>
                  <a:srgbClr val="ff99cc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fra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for dust trail (visible analog of dust trail seen by Spitz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gnificance of split com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tary nuclei are the most pristine material in the sola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” in a cold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art from space missions (Deep Impact, Rosetta), cometary splittings are the only possibility to study the unprocessed interior of the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the surface is not that much processed, either, th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to derive some key parameters like density, tensile strength, homogene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t SW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period comet, perihelion 0.93 AU, aphelion 5.18 AU, orbital period 5.3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ke into &gt;3 pieces in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perihelion passage 2000/2001 was unfavou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ragments redet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helion in 2006 was extremely favou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ached Earth to &lt;0.1 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70 (!!) fragments were det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fragments separating from Fragment B seen by H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724280" cy="360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106668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s and dust trail seen by Spit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522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t SW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s to the frag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“strong” fragments will surv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“weak” fragments may disappear due to runaway dis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and active  fragments may disappear due to sublimation, even if they are “stro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cc"/>
                </a:solidFill>
                <a:latin typeface="Times New Roman"/>
              </a:rPr>
              <a:t>The presence and brightness of the fragments after perihelion passage constrains the properties of the building blocks of the com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and Re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ment: Wide Field imager (~0.5° x 0.5°) at ESO 2.2m telescope in La Silla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 CCDs, 4k x 2k pixels ea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six fields containing the expected position of  &gt;60 fragments of 73P 26 Aug - 26 Sep 2006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hours service mode ob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filter, Exposure time (mostly) 350 seconds, dith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miting magnitude ~24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data reduction (bias subtraction, flat fielding), then pixel-wise median subtraction for groups of 3 imag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oved most artif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some oth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880" cy="2690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14600" y="3657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gment C, 21 Sept. ~mag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343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gment C is indeed the main fragment (most of the original nucleus), although Fragment B was of comparable brightness before 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 imag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763120" cy="2814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809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gment B, mag ~20-21, 26 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09880" y="2819160"/>
            <a:ext cx="1371600" cy="11430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133720" y="2819160"/>
            <a:ext cx="1295280" cy="11430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038480" y="2895480"/>
            <a:ext cx="4038840" cy="990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419720"/>
            <a:ext cx="883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gment B about factor of 100 fainter than Fragme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ded dramatically, but did not dis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e comet is tracked on the left imag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5715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gment G: Gone, 26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8:49:02Z</dcterms:created>
  <dc:creator> </dc:creator>
  <dc:description/>
  <dc:language>en-US</dc:language>
  <cp:lastModifiedBy>mkueppers</cp:lastModifiedBy>
  <dcterms:modified xsi:type="dcterms:W3CDTF">2008-08-25T16:07:28Z</dcterms:modified>
  <cp:revision>46</cp:revision>
  <dc:subject/>
  <dc:title>Operational parameters of the Rosetta Steins flyby</dc:title>
</cp:coreProperties>
</file>