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3.pct" ContentType="image/x-pict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31640" y="1397160"/>
            <a:ext cx="1214136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Verdana"/>
                <a:ea typeface="Verdana"/>
              </a:rPr>
              <a:t>Boundary layers I’ve known and loved and looked at from many different angle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Verdana"/>
                <a:ea typeface="Verdana"/>
              </a:rPr>
              <a:t>Sorry, ive got too many slides..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2600" y="6159600"/>
            <a:ext cx="1297944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SAsubtitle"/>
                <a:ea typeface="ESAsubtitle"/>
              </a:rPr>
              <a:t>M.G.G.T. Taylor, A. Åsnes, K. Nykyri, C.P. Escoubet, H. Laakso, M.W. Dunlop, M.N. Nishino, B. Lavraud, S.E. Milan, I.J. Rae, M. Lester,  A. Masson, H.J. Opgenoorth, M. Volwerk, A. Grocott, A.P. Walsh, J.A. Davies and A.N.F. Fazakerley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7435800"/>
            <a:ext cx="13004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2552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his work has in part been carried out under the auspices of the International Space Science Institute, Bern, Switzerland, as part of the dayside and tail teams looking at Cluster -Double Star conjunc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375240" y="6134040"/>
            <a:ext cx="6629400" cy="321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-2806560" y="-120600"/>
            <a:ext cx="13144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th December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244080" y="1028520"/>
            <a:ext cx="667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ctr">
            <a:sp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Taylor et al., 2008; Taylor and Lavraud, 2008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101520" y="2476440"/>
            <a:ext cx="6222960" cy="72136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327480" y="6769080"/>
            <a:ext cx="1396800" cy="1003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7531200" y="1943280"/>
            <a:ext cx="3822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Wave activity at Double Star 1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6308640" y="5334120"/>
            <a:ext cx="6780240" cy="52340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251840" y="3746520"/>
            <a:ext cx="49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data and simulations show boundary to be Kelvin Helmholtz unst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82680" y="1282680"/>
            <a:ext cx="104392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mmary of 5th December event: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Estimate radial extent of boundary layer at Polar ~ 1 R</a:t>
            </a:r>
            <a:r>
              <a:rPr b="0" lang="en-US" sz="3000" spc="-1" strike="noStrike" baseline="-6000">
                <a:solidFill>
                  <a:srgbClr val="ffff00"/>
                </a:solidFill>
                <a:latin typeface="Comic Sans MS"/>
                <a:ea typeface="Comic Sans MS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DPS observed about 4 hours after CME impac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Evidence of both Double Lobe and KHI activit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LBL at Polar not sufficient source of plasma for region sampled by TC1 -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o both mechanisms appear to be the source CDPS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We were also able to identify 3 distinct ion populations in the KH unstable boundary layer, but were unable to reach an unambiguous conclusion to their source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-11160" y="2114640"/>
            <a:ext cx="585324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ew’ event -11 July 2006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olar wind cond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orthward IMF lasts hours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gradual density increase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teady velocity~ 350-400 km/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589720" y="47520"/>
            <a:ext cx="7467480" cy="966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5600880" y="30240"/>
            <a:ext cx="7438680" cy="959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8920" y="1231920"/>
            <a:ext cx="12827160" cy="8445600"/>
          </a:xfrm>
          <a:prstGeom prst="roundRect">
            <a:avLst>
              <a:gd name="adj" fmla="val 22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114480" y="1063800"/>
            <a:ext cx="5613120" cy="5832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3051000" y="4711680"/>
            <a:ext cx="6901200" cy="53467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5"/>
          <a:stretch/>
        </p:blipFill>
        <p:spPr>
          <a:xfrm>
            <a:off x="6489720" y="1233360"/>
            <a:ext cx="66927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88920" y="1231920"/>
            <a:ext cx="12827160" cy="8445600"/>
          </a:xfrm>
          <a:prstGeom prst="roundRect">
            <a:avLst>
              <a:gd name="adj" fmla="val 22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114480" y="1063800"/>
            <a:ext cx="5613120" cy="5832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3051000" y="4711680"/>
            <a:ext cx="6901200" cy="5346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6489720" y="1233360"/>
            <a:ext cx="6692760" cy="50673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 flipV="1">
            <a:off x="1104840" y="2603160"/>
            <a:ext cx="596880" cy="60948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2145960" y="2107800"/>
            <a:ext cx="507960" cy="62244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177800" y="1549440"/>
            <a:ext cx="381240" cy="5076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8496360" y="3276720"/>
            <a:ext cx="673200" cy="20304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645320" y="3124080"/>
            <a:ext cx="1054080" cy="5076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845400" y="3949560"/>
            <a:ext cx="38160" cy="63504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7975440" y="7696080"/>
            <a:ext cx="304920" cy="48276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102200" y="6819840"/>
            <a:ext cx="609480" cy="21600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359320" y="6654960"/>
            <a:ext cx="596880" cy="6336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grpSp>
        <p:nvGrpSpPr>
          <p:cNvPr id="623" name=""/>
          <p:cNvGrpSpPr/>
          <p:nvPr/>
        </p:nvGrpSpPr>
        <p:grpSpPr>
          <a:xfrm>
            <a:off x="352440" y="111240"/>
            <a:ext cx="12642840" cy="13331520"/>
            <a:chOff x="352440" y="111240"/>
            <a:chExt cx="12642840" cy="13331520"/>
          </a:xfrm>
        </p:grpSpPr>
        <p:sp>
          <p:nvSpPr>
            <p:cNvPr id="624" name=""/>
            <p:cNvSpPr/>
            <p:nvPr/>
          </p:nvSpPr>
          <p:spPr>
            <a:xfrm>
              <a:off x="3225960" y="2946240"/>
              <a:ext cx="9769320" cy="1049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352440" y="111240"/>
              <a:ext cx="10331280" cy="1073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"/>
          <p:cNvSpPr/>
          <p:nvPr/>
        </p:nvSpPr>
        <p:spPr>
          <a:xfrm rot="18654600">
            <a:off x="5232240" y="6502320"/>
            <a:ext cx="1193760" cy="330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 rot="13860000">
            <a:off x="7124760" y="5270040"/>
            <a:ext cx="1193760" cy="330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rot="21061200">
            <a:off x="11225160" y="3858840"/>
            <a:ext cx="520920" cy="190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495360" y="1517760"/>
            <a:ext cx="9982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he X-Y pla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352440" y="111240"/>
            <a:ext cx="12642840" cy="13331520"/>
            <a:chOff x="352440" y="111240"/>
            <a:chExt cx="12642840" cy="13331520"/>
          </a:xfrm>
        </p:grpSpPr>
        <p:sp>
          <p:nvSpPr>
            <p:cNvPr id="632" name=""/>
            <p:cNvSpPr/>
            <p:nvPr/>
          </p:nvSpPr>
          <p:spPr>
            <a:xfrm>
              <a:off x="3225960" y="2946240"/>
              <a:ext cx="9769320" cy="1049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352440" y="111240"/>
              <a:ext cx="10331280" cy="1073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 rot="18654600">
            <a:off x="5232240" y="6502320"/>
            <a:ext cx="1193760" cy="330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 rot="13860000">
            <a:off x="7124760" y="5270040"/>
            <a:ext cx="1193760" cy="330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 rot="21061200">
            <a:off x="11225160" y="3858840"/>
            <a:ext cx="520920" cy="190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495360" y="1517760"/>
            <a:ext cx="9982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ets take a look at each crossing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375160" y="1820880"/>
            <a:ext cx="139352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872400" y="2540160"/>
            <a:ext cx="133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x </a:t>
            </a:r>
            <a:r>
              <a:rPr b="0" lang="en-US" sz="4200" spc="-1" strike="noStrike">
                <a:solidFill>
                  <a:srgbClr val="0000ff"/>
                </a:solidFill>
                <a:latin typeface="Gill Sans"/>
                <a:ea typeface="Gill Sans"/>
              </a:rPr>
              <a:t>y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Gill Sans"/>
                <a:ea typeface="Gill Sans"/>
              </a:rPr>
              <a:t>z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506920" y="2325600"/>
            <a:ext cx="586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-2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 rot="5400000">
            <a:off x="2792160" y="-1397160"/>
            <a:ext cx="12337920" cy="87314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089760" y="4286160"/>
            <a:ext cx="6446880" cy="14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4578480" y="2238480"/>
            <a:ext cx="13100040" cy="3897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1984040" y="2143080"/>
            <a:ext cx="442440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11995200" y="2440080"/>
            <a:ext cx="0" cy="34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101520" y="2394000"/>
            <a:ext cx="5130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A clear magnetopause cross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pacecraft enter ‘noisy’ sheath boundary lay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5475960" y="1918440"/>
            <a:ext cx="145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B (nT) G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5394240" y="912960"/>
            <a:ext cx="2201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GEOTAI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35440" y="1701720"/>
            <a:ext cx="9880560" cy="651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 rot="16200000">
            <a:off x="5219640" y="406440"/>
            <a:ext cx="6400800" cy="910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76320" y="63360"/>
            <a:ext cx="3809880" cy="9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broader boundary lay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o ‘clear’ KHI like activi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ome hints of injected material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Vz-Bz correlated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 reconnection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6098040" y="887400"/>
            <a:ext cx="80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C1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 rot="16200000">
            <a:off x="5097960" y="168480"/>
            <a:ext cx="676908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 rot="16200000">
            <a:off x="5600520" y="190440"/>
            <a:ext cx="6337440" cy="93600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5742360" y="836640"/>
            <a:ext cx="152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lust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63360" y="57240"/>
            <a:ext cx="3568680" cy="10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aw of Sod in play:-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ot all particle instruments on due to manoeuvr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however, we are still able to discern a significantly active boundary lay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0" y="704880"/>
            <a:ext cx="13004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otiv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7315200" y="7277040"/>
            <a:ext cx="4610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old, dense plasma sheet (CDPS), n~ &gt; 1-2 cm</a:t>
            </a:r>
            <a:r>
              <a:rPr b="0" lang="en-US" sz="3000" spc="-1" strike="noStrike" baseline="32000">
                <a:solidFill>
                  <a:srgbClr val="ffff00"/>
                </a:solidFill>
                <a:latin typeface="Comic Sans MS"/>
                <a:ea typeface="Comic Sans MS"/>
              </a:rPr>
              <a:t>-3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[Terasawa et al., 1997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47800" y="7436160"/>
            <a:ext cx="4799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000" tIns="0" bIns="0" anchor="ctr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Hot,tenuous plasma shee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 &lt; 0.7 cm</a:t>
            </a:r>
            <a:r>
              <a:rPr b="0" lang="en-US" sz="3000" spc="-1" strike="noStrike" baseline="32000">
                <a:solidFill>
                  <a:srgbClr val="ffff00"/>
                </a:solidFill>
                <a:latin typeface="Comic Sans MS"/>
                <a:ea typeface="Comic Sans MS"/>
              </a:rPr>
              <a:t>-3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[Borovsky et al., 1997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843920" y="181620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000" tIns="0" bIns="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outhward IMF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8217360" y="1898640"/>
            <a:ext cx="281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000" tIns="0" bIns="0" anchor="ctr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orthward IMF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291960" y="2565360"/>
            <a:ext cx="5905800" cy="46274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6616800" y="2552760"/>
            <a:ext cx="60195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 rot="16200000">
            <a:off x="1930320" y="-1016280"/>
            <a:ext cx="8902440" cy="126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509760" y="1541520"/>
            <a:ext cx="6311880" cy="85262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4152960" y="3797280"/>
            <a:ext cx="609480" cy="3606840"/>
          </a:xfrm>
          <a:prstGeom prst="rect">
            <a:avLst/>
          </a:prstGeom>
          <a:noFill/>
          <a:ln w="507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>
            <a:off x="6167520" y="28440"/>
            <a:ext cx="6972120" cy="98506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749160" y="1562040"/>
            <a:ext cx="5829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571680" y="7493040"/>
            <a:ext cx="5499000" cy="17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885960" y="879840"/>
            <a:ext cx="177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lu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368280" y="1797120"/>
            <a:ext cx="579132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we do have 4 spacecraft field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352440" y="111240"/>
            <a:ext cx="12642840" cy="13331520"/>
            <a:chOff x="352440" y="111240"/>
            <a:chExt cx="12642840" cy="13331520"/>
          </a:xfrm>
        </p:grpSpPr>
        <p:sp>
          <p:nvSpPr>
            <p:cNvPr id="671" name=""/>
            <p:cNvSpPr/>
            <p:nvPr/>
          </p:nvSpPr>
          <p:spPr>
            <a:xfrm>
              <a:off x="3225960" y="2946240"/>
              <a:ext cx="9769320" cy="1049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72" name="" descr=""/>
            <p:cNvPicPr/>
            <p:nvPr/>
          </p:nvPicPr>
          <p:blipFill>
            <a:blip r:embed="rId3"/>
            <a:stretch/>
          </p:blipFill>
          <p:spPr>
            <a:xfrm>
              <a:off x="352440" y="111240"/>
              <a:ext cx="10331280" cy="1073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"/>
          <p:cNvSpPr/>
          <p:nvPr/>
        </p:nvSpPr>
        <p:spPr>
          <a:xfrm rot="18654600">
            <a:off x="5232240" y="6502320"/>
            <a:ext cx="1193760" cy="330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"/>
          <p:cNvSpPr/>
          <p:nvPr/>
        </p:nvSpPr>
        <p:spPr>
          <a:xfrm rot="13860000">
            <a:off x="7124760" y="5270040"/>
            <a:ext cx="1193760" cy="330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"/>
          <p:cNvSpPr/>
          <p:nvPr/>
        </p:nvSpPr>
        <p:spPr>
          <a:xfrm rot="21061200">
            <a:off x="11225160" y="3858840"/>
            <a:ext cx="520920" cy="190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673200" y="1162080"/>
            <a:ext cx="99820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e can take a look at the evolution of boundary layer with respect to KH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8436960" y="2962800"/>
            <a:ext cx="61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- 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7378560" y="1200240"/>
            <a:ext cx="5562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asegawa et al. [2006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ingle spacecraft identification of rolled up vortex using simulation and Cluster data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09440" y="138240"/>
            <a:ext cx="7002720" cy="9564120"/>
            <a:chOff x="109440" y="138240"/>
            <a:chExt cx="7002720" cy="9564120"/>
          </a:xfrm>
        </p:grpSpPr>
        <p:sp>
          <p:nvSpPr>
            <p:cNvPr id="681" name=""/>
            <p:cNvSpPr/>
            <p:nvPr/>
          </p:nvSpPr>
          <p:spPr>
            <a:xfrm>
              <a:off x="343080" y="870120"/>
              <a:ext cx="6769080" cy="883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3"/>
            <a:stretch/>
          </p:blipFill>
          <p:spPr>
            <a:xfrm>
              <a:off x="109440" y="138240"/>
              <a:ext cx="6519960" cy="858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"/>
          <p:cNvGrpSpPr/>
          <p:nvPr/>
        </p:nvGrpSpPr>
        <p:grpSpPr>
          <a:xfrm>
            <a:off x="114480" y="0"/>
            <a:ext cx="12573000" cy="9762120"/>
            <a:chOff x="114480" y="0"/>
            <a:chExt cx="12573000" cy="9762120"/>
          </a:xfrm>
        </p:grpSpPr>
        <p:sp>
          <p:nvSpPr>
            <p:cNvPr id="684" name=""/>
            <p:cNvSpPr/>
            <p:nvPr/>
          </p:nvSpPr>
          <p:spPr>
            <a:xfrm>
              <a:off x="7632720" y="5853240"/>
              <a:ext cx="5054760" cy="29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4"/>
            <a:stretch/>
          </p:blipFill>
          <p:spPr>
            <a:xfrm>
              <a:off x="114480" y="0"/>
              <a:ext cx="4246560" cy="32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737560" y="6564600"/>
              <a:ext cx="546120" cy="482400"/>
            </a:xfrm>
            <a:prstGeom prst="ellipse">
              <a:avLst/>
            </a:prstGeom>
            <a:noFill/>
            <a:ln w="507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7560" y="7644240"/>
              <a:ext cx="546120" cy="482760"/>
            </a:xfrm>
            <a:prstGeom prst="ellipse">
              <a:avLst/>
            </a:prstGeom>
            <a:noFill/>
            <a:ln w="507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833120" y="7263360"/>
              <a:ext cx="546120" cy="482400"/>
            </a:xfrm>
            <a:prstGeom prst="ellipse">
              <a:avLst/>
            </a:prstGeom>
            <a:noFill/>
            <a:ln w="507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472040" y="7644240"/>
              <a:ext cx="211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000" tIns="0" bIns="0" anchor="t">
              <a:sp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agnetosheath</a:t>
              </a:r>
              <a:endParaRPr b="0" lang="en-US" sz="2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86760" y="6094440"/>
              <a:ext cx="2129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000" tIns="0" bIns="0" anchor="t">
              <a:sp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agnetosphere</a:t>
              </a:r>
              <a:endParaRPr b="0" lang="en-US" sz="2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290880" y="8000280"/>
              <a:ext cx="954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000" tIns="0" bIns="0" anchor="t">
              <a:sp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ixed</a:t>
              </a:r>
              <a:endParaRPr b="0" lang="en-US" sz="2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49640" y="9121680"/>
              <a:ext cx="44006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aylor et al., 2008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4680" y="11160"/>
            <a:ext cx="12719880" cy="9399600"/>
            <a:chOff x="4680" y="11160"/>
            <a:chExt cx="12719880" cy="9399600"/>
          </a:xfrm>
        </p:grpSpPr>
        <p:grpSp>
          <p:nvGrpSpPr>
            <p:cNvPr id="695" name=""/>
            <p:cNvGrpSpPr/>
            <p:nvPr/>
          </p:nvGrpSpPr>
          <p:grpSpPr>
            <a:xfrm>
              <a:off x="4680" y="11160"/>
              <a:ext cx="12719880" cy="9399600"/>
              <a:chOff x="4680" y="11160"/>
              <a:chExt cx="12719880" cy="9399600"/>
            </a:xfrm>
          </p:grpSpPr>
          <p:sp>
            <p:nvSpPr>
              <p:cNvPr id="696" name=""/>
              <p:cNvSpPr/>
              <p:nvPr/>
            </p:nvSpPr>
            <p:spPr>
              <a:xfrm>
                <a:off x="8710560" y="851040"/>
                <a:ext cx="3988440" cy="85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6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20" y="5622840"/>
                <a:ext cx="3867120" cy="29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9242280" y="6337440"/>
                <a:ext cx="325836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6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" y="2824200"/>
                <a:ext cx="388296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9229680" y="3500640"/>
                <a:ext cx="3432960" cy="30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7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0" y="11160"/>
                <a:ext cx="3927600" cy="29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9378720" y="862200"/>
                <a:ext cx="334584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11329200" y="1086120"/>
              <a:ext cx="10908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C1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810080" y="4059360"/>
              <a:ext cx="1710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TC1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833840" y="8418600"/>
              <a:ext cx="1660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Geotail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09440" y="138240"/>
            <a:ext cx="7002720" cy="9564120"/>
            <a:chOff x="109440" y="138240"/>
            <a:chExt cx="7002720" cy="9564120"/>
          </a:xfrm>
        </p:grpSpPr>
        <p:sp>
          <p:nvSpPr>
            <p:cNvPr id="707" name=""/>
            <p:cNvSpPr/>
            <p:nvPr/>
          </p:nvSpPr>
          <p:spPr>
            <a:xfrm>
              <a:off x="343080" y="870120"/>
              <a:ext cx="6769080" cy="883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6"/>
            <a:stretch/>
          </p:blipFill>
          <p:spPr>
            <a:xfrm>
              <a:off x="109440" y="138240"/>
              <a:ext cx="6519960" cy="8582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4680" y="11160"/>
            <a:ext cx="12719880" cy="9399600"/>
            <a:chOff x="4680" y="11160"/>
            <a:chExt cx="12719880" cy="9399600"/>
          </a:xfrm>
        </p:grpSpPr>
        <p:grpSp>
          <p:nvGrpSpPr>
            <p:cNvPr id="711" name=""/>
            <p:cNvGrpSpPr/>
            <p:nvPr/>
          </p:nvGrpSpPr>
          <p:grpSpPr>
            <a:xfrm>
              <a:off x="4680" y="11160"/>
              <a:ext cx="12719880" cy="9399600"/>
              <a:chOff x="4680" y="11160"/>
              <a:chExt cx="12719880" cy="9399600"/>
            </a:xfrm>
          </p:grpSpPr>
          <p:sp>
            <p:nvSpPr>
              <p:cNvPr id="712" name=""/>
              <p:cNvSpPr/>
              <p:nvPr/>
            </p:nvSpPr>
            <p:spPr>
              <a:xfrm>
                <a:off x="8710560" y="851040"/>
                <a:ext cx="3988440" cy="85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7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20" y="5622840"/>
                <a:ext cx="3867120" cy="29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9242280" y="6337440"/>
                <a:ext cx="325836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71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" y="2824200"/>
                <a:ext cx="388296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9229680" y="3500640"/>
                <a:ext cx="3432960" cy="30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7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0" y="11160"/>
                <a:ext cx="3927600" cy="29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"/>
              <p:cNvSpPr/>
              <p:nvPr/>
            </p:nvSpPr>
            <p:spPr>
              <a:xfrm>
                <a:off x="9378720" y="862200"/>
                <a:ext cx="334584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1329200" y="1086120"/>
              <a:ext cx="10908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C1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810080" y="4059360"/>
              <a:ext cx="1710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TC1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833840" y="8418600"/>
              <a:ext cx="1660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Geotail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09440" y="138240"/>
            <a:ext cx="7002720" cy="9564120"/>
            <a:chOff x="109440" y="138240"/>
            <a:chExt cx="7002720" cy="9564120"/>
          </a:xfrm>
        </p:grpSpPr>
        <p:sp>
          <p:nvSpPr>
            <p:cNvPr id="723" name=""/>
            <p:cNvSpPr/>
            <p:nvPr/>
          </p:nvSpPr>
          <p:spPr>
            <a:xfrm>
              <a:off x="343080" y="870120"/>
              <a:ext cx="6769080" cy="883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6"/>
            <a:stretch/>
          </p:blipFill>
          <p:spPr>
            <a:xfrm>
              <a:off x="109440" y="138240"/>
              <a:ext cx="6519960" cy="858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"/>
          <p:cNvSpPr/>
          <p:nvPr/>
        </p:nvSpPr>
        <p:spPr>
          <a:xfrm>
            <a:off x="2260440" y="3492360"/>
            <a:ext cx="2934000" cy="326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Evidence of rolled over nature of waves at Clu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0" y="1612800"/>
            <a:ext cx="12953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this time, Cluster are ~10,000 km separ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-85680" y="2502000"/>
            <a:ext cx="13130280" cy="4749840"/>
            <a:chOff x="-85680" y="2502000"/>
            <a:chExt cx="13130280" cy="4749840"/>
          </a:xfrm>
        </p:grpSpPr>
        <p:sp>
          <p:nvSpPr>
            <p:cNvPr id="729" name=""/>
            <p:cNvSpPr/>
            <p:nvPr/>
          </p:nvSpPr>
          <p:spPr>
            <a:xfrm>
              <a:off x="-49320" y="2502000"/>
              <a:ext cx="13093920" cy="46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-85680" y="2567160"/>
              <a:ext cx="4229640" cy="4684320"/>
              <a:chOff x="-85680" y="2567160"/>
              <a:chExt cx="4229640" cy="4684320"/>
            </a:xfrm>
          </p:grpSpPr>
          <p:sp>
            <p:nvSpPr>
              <p:cNvPr id="731" name=""/>
              <p:cNvSpPr/>
              <p:nvPr/>
            </p:nvSpPr>
            <p:spPr>
              <a:xfrm>
                <a:off x="506160" y="2691000"/>
                <a:ext cx="3512520" cy="3569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74360" y="3896280"/>
                <a:ext cx="252000" cy="117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40800" y="4923720"/>
                <a:ext cx="252000" cy="117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85680" y="4775760"/>
                <a:ext cx="250560" cy="1173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526760" y="3264120"/>
                <a:ext cx="252000" cy="11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83760" y="6311520"/>
                <a:ext cx="3760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8      -9     -10     -11     -12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-85680" y="2567160"/>
                <a:ext cx="539280" cy="38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6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5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777680" y="6722640"/>
                <a:ext cx="972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X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-334800" y="3443400"/>
                <a:ext cx="1039680" cy="47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Y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5025240" y="2692440"/>
              <a:ext cx="351252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12800" y="3470400"/>
              <a:ext cx="25200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64800" y="5937480"/>
              <a:ext cx="2523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93440" y="4614840"/>
              <a:ext cx="25056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69760" y="477684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55320" y="6311880"/>
              <a:ext cx="385560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16              -15              -1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12600" y="256716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12960" y="6723000"/>
              <a:ext cx="9392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Y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4173120" y="3443760"/>
              <a:ext cx="105588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333360" y="2692440"/>
              <a:ext cx="351108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149200" y="3470400"/>
              <a:ext cx="25056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963440" y="5937480"/>
              <a:ext cx="2505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525320" y="4614840"/>
              <a:ext cx="25200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299960" y="477684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209520" y="6311880"/>
              <a:ext cx="376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8      -9     -10     -11     -1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19280" y="256716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03080" y="6723000"/>
              <a:ext cx="9727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X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8480520" y="3444480"/>
              <a:ext cx="105732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304960" y="7852320"/>
            <a:ext cx="205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1  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2  </a:t>
            </a:r>
            <a:r>
              <a:rPr b="0" lang="en-US" sz="4200" spc="-1" strike="noStrike">
                <a:solidFill>
                  <a:srgbClr val="00ff00"/>
                </a:solidFill>
                <a:latin typeface="Gill Sans"/>
                <a:ea typeface="Gill Sans"/>
              </a:rPr>
              <a:t>3  </a:t>
            </a:r>
            <a:r>
              <a:rPr b="0" lang="en-US" sz="4200" spc="-1" strike="noStrike">
                <a:solidFill>
                  <a:srgbClr val="0000ff"/>
                </a:solidFill>
                <a:latin typeface="Gill Sans"/>
                <a:ea typeface="Gill Sans"/>
              </a:rPr>
              <a:t>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-60480" y="4952880"/>
            <a:ext cx="13130280" cy="4749840"/>
            <a:chOff x="-60480" y="4952880"/>
            <a:chExt cx="13130280" cy="4749840"/>
          </a:xfrm>
        </p:grpSpPr>
        <p:sp>
          <p:nvSpPr>
            <p:cNvPr id="760" name=""/>
            <p:cNvSpPr/>
            <p:nvPr/>
          </p:nvSpPr>
          <p:spPr>
            <a:xfrm>
              <a:off x="-24120" y="4952880"/>
              <a:ext cx="13093920" cy="46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-60480" y="5018040"/>
              <a:ext cx="4229640" cy="4684320"/>
              <a:chOff x="-60480" y="5018040"/>
              <a:chExt cx="4229640" cy="4684320"/>
            </a:xfrm>
          </p:grpSpPr>
          <p:sp>
            <p:nvSpPr>
              <p:cNvPr id="762" name=""/>
              <p:cNvSpPr/>
              <p:nvPr/>
            </p:nvSpPr>
            <p:spPr>
              <a:xfrm>
                <a:off x="531360" y="5141880"/>
                <a:ext cx="3512520" cy="3569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99560" y="6347160"/>
                <a:ext cx="252000" cy="117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466000" y="7374600"/>
                <a:ext cx="252000" cy="117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910880" y="7226640"/>
                <a:ext cx="250560" cy="1173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551960" y="5715000"/>
                <a:ext cx="252000" cy="11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08960" y="8762400"/>
                <a:ext cx="3760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8      -9     -10     -11     -12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-60480" y="5018040"/>
                <a:ext cx="539280" cy="38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6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5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802880" y="9173520"/>
                <a:ext cx="972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X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-309600" y="5894280"/>
                <a:ext cx="1039680" cy="47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Y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5050440" y="5143320"/>
              <a:ext cx="351252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38000" y="5921280"/>
              <a:ext cx="25200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90000" y="8388360"/>
              <a:ext cx="2523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18640" y="7065720"/>
              <a:ext cx="25056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949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80520" y="8762760"/>
              <a:ext cx="385560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16              -15              -1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3780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38160" y="9173880"/>
              <a:ext cx="9392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Y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4198320" y="5894640"/>
              <a:ext cx="105588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58560" y="5143320"/>
              <a:ext cx="351108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174400" y="5921280"/>
              <a:ext cx="25056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988640" y="8388360"/>
              <a:ext cx="2505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550520" y="7065720"/>
              <a:ext cx="25200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3251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234720" y="8762760"/>
              <a:ext cx="376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8      -9     -10     -11     -1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84448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28280" y="9173880"/>
              <a:ext cx="9727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X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8505720" y="5895360"/>
              <a:ext cx="105732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6167520" y="28440"/>
            <a:ext cx="6972120" cy="98506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885960" y="879840"/>
            <a:ext cx="177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lu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-60480" y="4952880"/>
            <a:ext cx="13130280" cy="4749840"/>
            <a:chOff x="-60480" y="4952880"/>
            <a:chExt cx="13130280" cy="4749840"/>
          </a:xfrm>
        </p:grpSpPr>
        <p:sp>
          <p:nvSpPr>
            <p:cNvPr id="793" name=""/>
            <p:cNvSpPr/>
            <p:nvPr/>
          </p:nvSpPr>
          <p:spPr>
            <a:xfrm>
              <a:off x="-24120" y="4952880"/>
              <a:ext cx="13093920" cy="46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-60480" y="5018040"/>
              <a:ext cx="4229640" cy="4684320"/>
              <a:chOff x="-60480" y="5018040"/>
              <a:chExt cx="4229640" cy="4684320"/>
            </a:xfrm>
          </p:grpSpPr>
          <p:sp>
            <p:nvSpPr>
              <p:cNvPr id="795" name=""/>
              <p:cNvSpPr/>
              <p:nvPr/>
            </p:nvSpPr>
            <p:spPr>
              <a:xfrm>
                <a:off x="531360" y="5141880"/>
                <a:ext cx="3512520" cy="3569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599560" y="6347160"/>
                <a:ext cx="252000" cy="117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466000" y="7374600"/>
                <a:ext cx="252000" cy="117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910880" y="7226640"/>
                <a:ext cx="250560" cy="1173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51960" y="5715000"/>
                <a:ext cx="252000" cy="11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8960" y="8762400"/>
                <a:ext cx="3760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8      -9     -10     -11     -12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-60480" y="5018040"/>
                <a:ext cx="539280" cy="38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6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5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02880" y="9173520"/>
                <a:ext cx="972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X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200000">
                <a:off x="-309600" y="5894280"/>
                <a:ext cx="1039680" cy="47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Y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5050440" y="5143320"/>
              <a:ext cx="351252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38000" y="5921280"/>
              <a:ext cx="25200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90000" y="8388360"/>
              <a:ext cx="2523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18640" y="7065720"/>
              <a:ext cx="25056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949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80520" y="8762760"/>
              <a:ext cx="385560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16              -15              -1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3780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38160" y="9173880"/>
              <a:ext cx="9392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Y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4198320" y="5894640"/>
              <a:ext cx="105588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58560" y="5143320"/>
              <a:ext cx="351108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174400" y="5921280"/>
              <a:ext cx="25056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8640" y="8388360"/>
              <a:ext cx="2505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550520" y="7065720"/>
              <a:ext cx="25200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3251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234720" y="8762760"/>
              <a:ext cx="376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8      -9     -10     -11     -1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84448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628280" y="9173880"/>
              <a:ext cx="9727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X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8505720" y="5895360"/>
              <a:ext cx="105732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6167520" y="28440"/>
            <a:ext cx="6972120" cy="98506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885960" y="879840"/>
            <a:ext cx="177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lu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6934320" y="50760"/>
            <a:ext cx="1218960" cy="9309240"/>
          </a:xfrm>
          <a:prstGeom prst="rect">
            <a:avLst/>
          </a:prstGeom>
          <a:noFill/>
          <a:ln w="507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-60480" y="4952880"/>
            <a:ext cx="13130280" cy="4749840"/>
            <a:chOff x="-60480" y="4952880"/>
            <a:chExt cx="13130280" cy="4749840"/>
          </a:xfrm>
        </p:grpSpPr>
        <p:sp>
          <p:nvSpPr>
            <p:cNvPr id="827" name=""/>
            <p:cNvSpPr/>
            <p:nvPr/>
          </p:nvSpPr>
          <p:spPr>
            <a:xfrm>
              <a:off x="-24120" y="4952880"/>
              <a:ext cx="13093920" cy="46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-60480" y="5018040"/>
              <a:ext cx="4229640" cy="4684320"/>
              <a:chOff x="-60480" y="5018040"/>
              <a:chExt cx="4229640" cy="4684320"/>
            </a:xfrm>
          </p:grpSpPr>
          <p:sp>
            <p:nvSpPr>
              <p:cNvPr id="829" name=""/>
              <p:cNvSpPr/>
              <p:nvPr/>
            </p:nvSpPr>
            <p:spPr>
              <a:xfrm>
                <a:off x="531360" y="5141880"/>
                <a:ext cx="3512520" cy="3569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99560" y="6347160"/>
                <a:ext cx="252000" cy="117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66000" y="7374600"/>
                <a:ext cx="252000" cy="117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910880" y="7226640"/>
                <a:ext cx="250560" cy="1173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551960" y="5715000"/>
                <a:ext cx="252000" cy="11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8960" y="8762400"/>
                <a:ext cx="3760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8      -9     -10     -11     -12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-60480" y="5018040"/>
                <a:ext cx="539280" cy="38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6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5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-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02880" y="9173520"/>
                <a:ext cx="972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X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6200000">
                <a:off x="-309600" y="5894280"/>
                <a:ext cx="1039680" cy="47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Gill Sans"/>
                  </a:rPr>
                  <a:t>Y GSE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050440" y="5143320"/>
              <a:ext cx="351252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38000" y="5921280"/>
              <a:ext cx="25200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90000" y="8388360"/>
              <a:ext cx="2523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8640" y="7065720"/>
              <a:ext cx="25056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949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80520" y="8762760"/>
              <a:ext cx="385560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16              -15              -1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3780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338160" y="9173880"/>
              <a:ext cx="9392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Y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4198320" y="5894640"/>
              <a:ext cx="105588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358560" y="5143320"/>
              <a:ext cx="3511080" cy="356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174400" y="5921280"/>
              <a:ext cx="250560" cy="117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988640" y="8388360"/>
              <a:ext cx="250560" cy="117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550520" y="7065720"/>
              <a:ext cx="252000" cy="117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325160" y="7227720"/>
              <a:ext cx="252000" cy="117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234720" y="8762760"/>
              <a:ext cx="376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8      -9     -10     -11     -1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844480" y="5018040"/>
              <a:ext cx="3805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628280" y="9173880"/>
              <a:ext cx="9727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X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8505720" y="5895360"/>
              <a:ext cx="1057320" cy="47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Z GSE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6167520" y="28440"/>
            <a:ext cx="6972120" cy="98506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885960" y="879840"/>
            <a:ext cx="177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lu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6934320" y="50760"/>
            <a:ext cx="1218960" cy="9309240"/>
          </a:xfrm>
          <a:prstGeom prst="rect">
            <a:avLst/>
          </a:prstGeom>
          <a:noFill/>
          <a:ln w="507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4"/>
          <a:stretch/>
        </p:blipFill>
        <p:spPr>
          <a:xfrm>
            <a:off x="3005280" y="44280"/>
            <a:ext cx="1003284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5079960" y="1981080"/>
            <a:ext cx="79120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7581960" cy="56786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457200" y="1695600"/>
            <a:ext cx="4305240" cy="63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Using 4 sc EFW and FGM measurements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patial extent of the boundary lay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  <a:ea typeface="Gill Sans"/>
              </a:rPr>
              <a:t>C3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 and </a:t>
            </a:r>
            <a:r>
              <a:rPr b="0" lang="en-US" sz="3600" spc="-1" strike="noStrike">
                <a:solidFill>
                  <a:srgbClr val="0000ff"/>
                </a:solidFill>
                <a:latin typeface="Gill Sans"/>
                <a:ea typeface="Gill Sans"/>
              </a:rPr>
              <a:t>C4: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 little or no magnetosheath plasma, but do see low density high spee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coherent signatures over ~ 10,000 k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7315200" y="7277040"/>
            <a:ext cx="4610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old, dense plasma sheet (CDPS), n~ &gt; 1-2 cm</a:t>
            </a:r>
            <a:r>
              <a:rPr b="0" lang="en-US" sz="3000" spc="-1" strike="noStrike" baseline="32000">
                <a:solidFill>
                  <a:srgbClr val="ffff00"/>
                </a:solidFill>
                <a:latin typeface="Comic Sans MS"/>
                <a:ea typeface="Comic Sans MS"/>
              </a:rPr>
              <a:t>-3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[Terasawa et al., 1997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8217360" y="1898640"/>
            <a:ext cx="281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000" tIns="0" bIns="0" anchor="ctr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Northward IMF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927000" y="3467160"/>
            <a:ext cx="41785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How are boundary layers and plasma sheet formed under northward IMF?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here are a couple of favoured mechanisms: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717480"/>
            <a:ext cx="13004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otiv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6616800" y="2552760"/>
            <a:ext cx="60195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295280" y="4762440"/>
            <a:ext cx="1040148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3"/>
          <a:stretch/>
        </p:blipFill>
        <p:spPr>
          <a:xfrm>
            <a:off x="1422360" y="4965840"/>
            <a:ext cx="10147320" cy="463536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06440" y="1930320"/>
            <a:ext cx="121921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ave run some preliminary simulations of the Cluster crossing which show rolled over characteristics and some high density fila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52280" y="1600200"/>
            <a:ext cx="12687480" cy="79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11 July 2006 - great conjunction of spacecraft and ground bas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3 near simultaneous magnetopause crossings give insight into evolution of the magnetopause boundary layer under northward IMF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pace craft separated by about 17 Re in x and ~ 6 hours in local 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ee growth of waves locally at spacecraft to at least ~ 10,000 km in siz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4120" indent="-342720">
              <a:lnSpc>
                <a:spcPct val="100000"/>
              </a:lnSpc>
              <a:spcBef>
                <a:spcPts val="499"/>
              </a:spcBef>
              <a:buSzPct val="15939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biggest’ waves correspond to the global nature of the waves observed at same time by ground based magnetometer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1" name=""/>
          <p:cNvSpPr/>
          <p:nvPr/>
        </p:nvSpPr>
        <p:spPr>
          <a:xfrm>
            <a:off x="-50760" y="647640"/>
            <a:ext cx="131065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2552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42552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228600"/>
            <a:ext cx="13004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Motivation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6353280" y="4237200"/>
            <a:ext cx="6451560" cy="47322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03120" y="3755880"/>
            <a:ext cx="5867640" cy="56818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22440" y="1917720"/>
            <a:ext cx="5232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Kelvin-Helmholtz instabilities          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Hasegawa et al., 2004)            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6375240" y="1917720"/>
            <a:ext cx="64008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Poleward of cusp reconnection                                                    (Song and Russell,1992;Raeder et al.,1995;1997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295280" y="2603520"/>
            <a:ext cx="104140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Which mechanism is dominant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Where does it occur and under what solar wind conditions 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Utilise multi-spacecraft + ground based measurements to get a global and local view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-2806560" y="-120600"/>
            <a:ext cx="13144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th December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0" y="0"/>
            <a:ext cx="12966840" cy="9715320"/>
            <a:chOff x="0" y="0"/>
            <a:chExt cx="12966840" cy="9715320"/>
          </a:xfrm>
        </p:grpSpPr>
        <p:sp>
          <p:nvSpPr>
            <p:cNvPr id="553" name=""/>
            <p:cNvSpPr/>
            <p:nvPr/>
          </p:nvSpPr>
          <p:spPr>
            <a:xfrm>
              <a:off x="7175520" y="546120"/>
              <a:ext cx="5791320" cy="916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0" y="73080"/>
              <a:ext cx="12965040" cy="9642240"/>
              <a:chOff x="0" y="73080"/>
              <a:chExt cx="12965040" cy="9642240"/>
            </a:xfrm>
          </p:grpSpPr>
          <p:sp>
            <p:nvSpPr>
              <p:cNvPr id="555" name=""/>
              <p:cNvSpPr/>
              <p:nvPr/>
            </p:nvSpPr>
            <p:spPr>
              <a:xfrm>
                <a:off x="7421760" y="3906720"/>
                <a:ext cx="5543280" cy="580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5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760" y="73080"/>
                <a:ext cx="532908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652840"/>
                <a:ext cx="5418000" cy="315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8" name="" descr=""/>
            <p:cNvPicPr/>
            <p:nvPr/>
          </p:nvPicPr>
          <p:blipFill>
            <a:blip r:embed="rId4"/>
            <a:stretch/>
          </p:blipFill>
          <p:spPr>
            <a:xfrm>
              <a:off x="533520" y="0"/>
              <a:ext cx="5257800" cy="336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203040" y="1650960"/>
            <a:ext cx="6756480" cy="78994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44080" y="1028520"/>
            <a:ext cx="667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ctr">
            <a:sp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Taylor et al., 2008; Taylor and Lavraud, 2008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-2806560" y="-120600"/>
            <a:ext cx="13144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th December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0"/>
            <a:ext cx="12966840" cy="9715320"/>
            <a:chOff x="0" y="0"/>
            <a:chExt cx="12966840" cy="9715320"/>
          </a:xfrm>
        </p:grpSpPr>
        <p:sp>
          <p:nvSpPr>
            <p:cNvPr id="564" name=""/>
            <p:cNvSpPr/>
            <p:nvPr/>
          </p:nvSpPr>
          <p:spPr>
            <a:xfrm>
              <a:off x="7175520" y="546120"/>
              <a:ext cx="5791320" cy="916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0" y="73080"/>
              <a:ext cx="12965040" cy="9642240"/>
              <a:chOff x="0" y="73080"/>
              <a:chExt cx="12965040" cy="9642240"/>
            </a:xfrm>
          </p:grpSpPr>
          <p:sp>
            <p:nvSpPr>
              <p:cNvPr id="566" name=""/>
              <p:cNvSpPr/>
              <p:nvPr/>
            </p:nvSpPr>
            <p:spPr>
              <a:xfrm>
                <a:off x="7421760" y="3906720"/>
                <a:ext cx="5543280" cy="580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5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760" y="73080"/>
                <a:ext cx="532908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652840"/>
                <a:ext cx="5418000" cy="315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533520" y="0"/>
              <a:ext cx="5257800" cy="336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203040" y="1650960"/>
            <a:ext cx="6756480" cy="78994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44080" y="1028520"/>
            <a:ext cx="667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ctr">
            <a:sp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Taylor et al., 2008; Taylor and Lavraud, 2008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84280" y="8280360"/>
            <a:ext cx="5156280" cy="1003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876240" y="-463680"/>
            <a:ext cx="1314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th December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850920" y="837720"/>
            <a:ext cx="667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ctr">
            <a:sp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Taylor et al., 2008; Taylor and Lavraud, 2008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88920" y="1650960"/>
            <a:ext cx="6222960" cy="826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333360" y="1774800"/>
            <a:ext cx="5029200" cy="74739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505640" y="3035160"/>
            <a:ext cx="4419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Dayside boundary layer...Pola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7493040" y="5054760"/>
            <a:ext cx="38228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LLBL during northward IMF period, likely created by lobe reconne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8920" y="2857680"/>
            <a:ext cx="13017600" cy="661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-76320" y="-146160"/>
            <a:ext cx="1314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th December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3279600" y="990360"/>
            <a:ext cx="667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ctr">
            <a:spAutoFit/>
          </a:bodyPr>
          <a:p>
            <a:pPr marL="442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Taylor et al., 2008; Taylor and Lavraud, 2008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8160" y="38160"/>
            <a:ext cx="2082600" cy="7635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812880" y="3619440"/>
            <a:ext cx="5524560" cy="53593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6464160" y="3517920"/>
            <a:ext cx="6426360" cy="55497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16000" y="1797120"/>
            <a:ext cx="1278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38412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SuperDARN convection maps. Clear sunward flow over the polar cap, consistent with poleward of cusp reconnection in the northern hemisphe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