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788-A2FA-4FCA-8BEA-BA8998D5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C1D-80AB-498F-A497-F395B836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C1D-E1E7-497C-97F5-F082165D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5D2-1BF8-478E-9AE4-82D7D0DC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0F38-E45A-48B4-8DA7-04DC1E88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DCB2-F6CF-449C-BD07-3A910232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D37-1372-4CF4-A69B-5AB43ABA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FF74-63B6-4FA1-A013-0C19392B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E44A-5C24-4588-85C1-A3AF98DE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9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ED56-6158-41DE-A8A7-4B57D36C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C716-2BAF-4FF0-B806-2FF5788F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798-62E9-43FA-AE69-DFB0B26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A33D-8F24-497F-B129-5997A0C6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A26E-97D3-45D1-87B0-BCD1A15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064B-8259-46AB-95C0-B91C4ADE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F174-0620-4D26-866A-BC57555F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52C4-9E7D-4EE1-8AB3-5B7955DC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AE5-0A3C-4660-BCF0-F5A9D469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603-BBE8-41C1-AB3A-C1C7CFB6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610-FB04-473F-8359-BFDBE1E8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9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8D1-1A26-4E08-96FB-D7F83957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373-004D-446B-BF3F-30D03740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215-EAEA-42A8-A6AD-4300628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2A04-0F9C-44C9-AA01-5CA0ED44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BF420C-8DBC-4A71-87B3-F826372987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40533-9E4B-465A-BB2B-901DD67CEB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1225440"/>
            <a:ext cx="5695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.T.M. Peters (1, 2), B.H. Foing (1) 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) ESTEC – RSSD, 2) VU University Amsterd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tudy of lunar circular basin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sostasy and flexure of mascon reg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23840" y="2448000"/>
            <a:ext cx="7129440" cy="3779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095480" y="2592360"/>
            <a:ext cx="7056360" cy="3532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447920" y="6364440"/>
            <a:ext cx="800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 Department Science Workshop, ESA / ESTEC, 29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mascon under Mare Serenitatis"/>
          <p:cNvPicPr/>
          <p:nvPr/>
        </p:nvPicPr>
        <p:blipFill>
          <a:blip r:embed="rId1"/>
          <a:stretch/>
        </p:blipFill>
        <p:spPr>
          <a:xfrm>
            <a:off x="3886200" y="3809880"/>
            <a:ext cx="3657600" cy="30178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-76320" y="762120"/>
            <a:ext cx="381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s of excess positive gravity anomalies, result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disruption of the lithosphere by basin forming impacts that triggered isostatic uplift of the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0788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100000"/>
              </a:lnSpc>
              <a:buNone/>
              <a:tabLst>
                <a:tab algn="l" pos="0"/>
                <a:tab algn="l" pos="214200"/>
                <a:tab algn="l" pos="1128600"/>
                <a:tab algn="l" pos="2043000"/>
                <a:tab algn="l" pos="2957400"/>
                <a:tab algn="l" pos="3871800"/>
                <a:tab algn="l" pos="4786200"/>
                <a:tab algn="l" pos="5700600"/>
                <a:tab algn="l" pos="6615000"/>
                <a:tab algn="l" pos="7529400"/>
                <a:tab algn="l" pos="8443800"/>
                <a:tab algn="l" pos="9358200"/>
                <a:tab algn="l" pos="102726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Origin of masc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3733920"/>
            <a:ext cx="1752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pography and gravity data for Mare Serenitatis from Lunar Prospector data taken from www.daviddarling.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5219640" cy="2610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809880" y="34290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Zuber et al., 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-76320" y="38862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high density of mare basalts that filled the bas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44640"/>
            <a:ext cx="929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4200" indent="-214200" algn="ctr">
              <a:lnSpc>
                <a:spcPct val="100000"/>
              </a:lnSpc>
              <a:tabLst>
                <a:tab algn="l" pos="0"/>
                <a:tab algn="l" pos="214200"/>
                <a:tab algn="l" pos="1128600"/>
                <a:tab algn="l" pos="2043000"/>
                <a:tab algn="l" pos="2957400"/>
                <a:tab algn="l" pos="3871800"/>
                <a:tab algn="l" pos="4786200"/>
                <a:tab algn="l" pos="5700600"/>
                <a:tab algn="l" pos="6615000"/>
                <a:tab algn="l" pos="7529400"/>
                <a:tab algn="l" pos="8443800"/>
                <a:tab algn="l" pos="9358200"/>
                <a:tab algn="l" pos="10272600"/>
                <a:tab algn="l" pos="105156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ompensation rate of the mascon: a function of lithospheric thick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524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static compensation rates depend on thickness of the lithosphere and are hence coupled with its variations through time due to planetary coo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50292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Sugano and Heki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124080" y="1474920"/>
            <a:ext cx="594360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-685800" y="75960"/>
            <a:ext cx="10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tion of the lithosphere by flexure and faul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9907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20600" y="914400"/>
            <a:ext cx="5137200" cy="1263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6840" y="2438280"/>
            <a:ext cx="5178600" cy="4237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415120" y="3678120"/>
            <a:ext cx="3657600" cy="2951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334120" y="838080"/>
            <a:ext cx="3809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cons act like a dense load on the lunar lithosphere and flexure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stresses related to flexure exceed the crustal yield strength, fault systems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2133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Peters et al.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6629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Arkani-Hamed, 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Melosh, 19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36360" y="-216000"/>
            <a:ext cx="968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ck of gravity anomalies for SP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79280" y="846000"/>
            <a:ext cx="4032360" cy="2765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79280" y="3727440"/>
            <a:ext cx="4032360" cy="2749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-53352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20" y="6507000"/>
            <a:ext cx="1159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Figures show South Pole Aitken topography (km) and Free Air anomalies (mgal) respectively and were taken from Arkani-Hamed (1998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17524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guer anomalies imply isostatic comp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31240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in agreement with age indications of the basin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(Head et al., 1993) that imply a much older basin age than for other mascons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46520" y="-380880"/>
            <a:ext cx="95187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ject outline, methods and temporarily resul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80060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90520" y="3048120"/>
            <a:ext cx="2638440" cy="2514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276720" y="45720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Project out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ify flexure profiles with COBRA for models resulting from new data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mith et al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1997); GLTM2C);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onopliv et 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(2001); LP150Q) and different crustal structure mod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rientation and location of different fault patterns that are predicted by the model with those observed on SMART-1 AMIE images and geological ma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l compensation for SPA for early crustal conditions: Can the lack of gravity anomalies fully be attributed to isostas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st fluidization hypothesis for explanation of surrounding rings with negative anoma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3062160" y="3305160"/>
            <a:ext cx="60055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apt software for lunar conditions and define model parameters (e.g. elastic properties, material densities, size and depth of the subloads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profiles along basins, select related gravity and topography data from database (Wieckzorek, 2006) and plot mascon induced flex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D finite element modeling for interactions of flexure for different mas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57150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Temporarily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e Humorum: Concentric graben match predicted fault pattern. Annulus zone of strike-slip is poorly developed because of failure criteria, probably as well as the inner zone of thrust faults, which is not observed at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54864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Peters et al.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 Peters</dc:creator>
  <dc:description/>
  <dc:language>en-US</dc:language>
  <cp:lastModifiedBy>IT Servicedesk</cp:lastModifiedBy>
  <dcterms:modified xsi:type="dcterms:W3CDTF">2008-08-27T18:34:17Z</dcterms:modified>
  <cp:revision>4</cp:revision>
  <dc:subject/>
  <dc:title>Slide 1</dc:title>
</cp:coreProperties>
</file>