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2E5-34D4-43CB-8BFD-B272014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3B9-500A-4253-85CD-2595974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FD0-B3CE-4B46-AA56-270690C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C1A-9334-47CB-A5BE-288C7DC8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2E50-6A6D-4C5B-B280-587D60C5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0C55-6F7D-4BAE-89D0-D92FBA8C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95AB-D886-43C1-AF8F-09D9040D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1958-E4DC-4416-B738-F53FE0D9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C0F-4C7C-47A3-AD4D-D99DFC1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35F-00FF-4F92-9863-C4DB40B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336D-EE23-4597-9A17-5CDFB31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357-8A4E-4A6B-9AB6-E261123C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05E-BD58-41D0-B6E6-BA8D1DB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5DB7-DF33-4CFD-9B31-E233BEE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EDF-3E3C-4B1D-8AFA-B275665D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716-8AE4-4F69-BDE5-95452DB0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7566-E049-4627-86F0-E6C943D4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5C8-E2EF-41D1-9E5A-25A5046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4C9-7C50-45FA-81AD-81D51912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CB4-1D4B-4AE3-A95C-67877DD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092-7DC7-46A4-BCA5-C401763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DF7-1DFF-4B59-BFEB-FDEA958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2E0-530E-4C78-BAB6-DEDD646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D02-81D3-42EE-BBBB-701D6EF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A5A74-DBCC-4A0F-A7BC-C3D4F108B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AF634-AB0C-4100-B1ED-CB0C82BB6F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25440"/>
            <a:ext cx="5695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.T.M. Peters (1, 2), B.H. Foing (1)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ESTEC – RSSD, 2) VU University Amsterd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tudy of lunar circular basin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sostasy and flexure of mascon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23840" y="2448000"/>
            <a:ext cx="7129440" cy="377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95480" y="2592360"/>
            <a:ext cx="7056360" cy="3532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447920" y="636444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 Department Science Workshop, ESA / ESTEC, 29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mascon under Mare Serenitatis"/>
          <p:cNvPicPr/>
          <p:nvPr/>
        </p:nvPicPr>
        <p:blipFill>
          <a:blip r:embed="rId1"/>
          <a:stretch/>
        </p:blipFill>
        <p:spPr>
          <a:xfrm>
            <a:off x="3886200" y="3809880"/>
            <a:ext cx="3657600" cy="3017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-76320" y="76212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s of excess positive gravity anomalies, result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disruption of the lithosphere by basin forming impacts that triggered isostatic uplift of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0788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00000"/>
              </a:lnSpc>
              <a:buNone/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Origin of masc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3733920"/>
            <a:ext cx="1752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pography and gravity data for Mare Serenitatis from Lunar Prospector data taken from www.daviddarling.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219640" cy="2610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0988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Zuber et al.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76320" y="3886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high density of mare basalts that filled the bas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44640"/>
            <a:ext cx="929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4200" indent="-214200" algn="ctr">
              <a:lnSpc>
                <a:spcPct val="100000"/>
              </a:lnSpc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ompensation rate of the mascon: a function of lithospheric thic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524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static compensation rates depend on thickness of the lithosphere and are hence coupled with its variations through time due to planetary coo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292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ugano and Heki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24080" y="1474920"/>
            <a:ext cx="5943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-685800" y="75960"/>
            <a:ext cx="10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tion of the lithosphere by flexure and faul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9907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20600" y="914400"/>
            <a:ext cx="5137200" cy="1263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6840" y="2438280"/>
            <a:ext cx="5178600" cy="4237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415120" y="3678120"/>
            <a:ext cx="3657600" cy="2951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34120" y="838080"/>
            <a:ext cx="3809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cons act like a dense load on the lunar lithosphere and flexure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tresses related to flexure exceed the crustal yield strength, fault systems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Peters et al.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629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Arkani-Hamed,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Melosh, 19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36360" y="-216000"/>
            <a:ext cx="968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ck of gravity anomalies for S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4032360" cy="2765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79280" y="3727440"/>
            <a:ext cx="4032360" cy="2749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-53352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20" y="6507000"/>
            <a:ext cx="115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Figures show South Pole Aitken topography (km) and Free Air anomalies (mgal) respectively and were taken from Arkani-Hamed (199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1752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guer anomalies imply isostatic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31240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n agreement with age indications of the basi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(Head et al., 1993) that imply a much older basin age than for other mascons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46520" y="-380880"/>
            <a:ext cx="95187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ject outline, methods and temporarily resul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80060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0520" y="304812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276720" y="45720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Project out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ify flexure profiles with COBRA for models resulting from new data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mith et 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1997); GLTM2C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onopliv 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(2001); LP150Q) and different crustal structure mod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rientation and location of different fault patterns that are predicted by the model with those observed on SMART-1 AMIE images and geological ma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l compensation for SPA for early crustal conditions: Can the lack of gravity anomalies fully be attributed to isostas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st fluidization hypothesis for explanation of surrounding rings with negative anoma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062160" y="3305160"/>
            <a:ext cx="60055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 software for lunar conditions and define model parameters (e.g. elastic properties, material densities, size and depth of the subloads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profiles along basins, select related gravity and topography data from database (Wieckzorek, 2006) and plot mascon induced flex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D finite element modeling for interactions of flexure for different mas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57150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Temporaril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e Humorum: Concentric graben match predicted fault pattern. Annulus zone of strike-slip is poorly developed because of failure criteria, probably as well as the inner zone of thrust faults, which is not observed at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5486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eters et al.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Peters</dc:creator>
  <dc:description/>
  <dc:language>en-US</dc:language>
  <cp:lastModifiedBy>IT Servicedesk</cp:lastModifiedBy>
  <dcterms:modified xsi:type="dcterms:W3CDTF">2008-08-27T18:34:17Z</dcterms:modified>
  <cp:revision>4</cp:revision>
  <dc:subject/>
  <dc:title>Slide 1</dc:title>
</cp:coreProperties>
</file>