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image13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4920" y="6324480"/>
            <a:ext cx="9144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age </a:t>
            </a:r>
            <a:fld id="{A4D0F60B-304C-41F6-9A7A-D4ABBF600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52280"/>
            <a:ext cx="334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66"/>
                </a:solidFill>
                <a:latin typeface="Arial"/>
              </a:rPr>
              <a:t>ESA Inter-Departmental Science Meeting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66"/>
                </a:solidFill>
                <a:latin typeface="Arial"/>
              </a:rPr>
              <a:t>28/29 August 200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ICC-logo-notransparant" descr=""/>
          <p:cNvPicPr/>
          <p:nvPr/>
        </p:nvPicPr>
        <p:blipFill>
          <a:blip r:embed="rId2"/>
          <a:stretch/>
        </p:blipFill>
        <p:spPr>
          <a:xfrm>
            <a:off x="4648320" y="6172200"/>
            <a:ext cx="990360" cy="42228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7620120" y="6172200"/>
            <a:ext cx="838080" cy="419040"/>
          </a:xfrm>
          <a:prstGeom prst="rect">
            <a:avLst/>
          </a:prstGeom>
          <a:ln w="0">
            <a:noFill/>
          </a:ln>
        </p:spPr>
      </p:pic>
      <p:grpSp>
        <p:nvGrpSpPr>
          <p:cNvPr id="4" name=""/>
          <p:cNvGrpSpPr/>
          <p:nvPr/>
        </p:nvGrpSpPr>
        <p:grpSpPr>
          <a:xfrm>
            <a:off x="6629400" y="6095880"/>
            <a:ext cx="914400" cy="567000"/>
            <a:chOff x="6629400" y="6095880"/>
            <a:chExt cx="914400" cy="567000"/>
          </a:xfrm>
        </p:grpSpPr>
        <p:pic>
          <p:nvPicPr>
            <p:cNvPr id="5" name="" descr=""/>
            <p:cNvPicPr/>
            <p:nvPr/>
          </p:nvPicPr>
          <p:blipFill>
            <a:blip r:embed="rId4"/>
            <a:stretch/>
          </p:blipFill>
          <p:spPr>
            <a:xfrm>
              <a:off x="6629400" y="6095880"/>
              <a:ext cx="872640" cy="56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6629400" y="6095880"/>
              <a:ext cx="914400" cy="567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PA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5867280" y="6172200"/>
            <a:ext cx="685800" cy="37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6"/>
          <a:stretch/>
        </p:blipFill>
        <p:spPr>
          <a:xfrm>
            <a:off x="1600200" y="6248520"/>
            <a:ext cx="2781360" cy="31896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609588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" descr=""/>
          <p:cNvPicPr/>
          <p:nvPr/>
        </p:nvPicPr>
        <p:blipFill>
          <a:blip r:embed="rId7"/>
          <a:stretch/>
        </p:blipFill>
        <p:spPr>
          <a:xfrm>
            <a:off x="8458200" y="152280"/>
            <a:ext cx="495360" cy="49536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>
            <a:off x="3492360" y="0"/>
            <a:ext cx="466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3cc"/>
                </a:solidFill>
                <a:latin typeface="Times New Roman"/>
              </a:rPr>
              <a:t>Environments of Evolved Massive St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99ff"/>
                </a:solidFill>
                <a:latin typeface="Times New Roman"/>
              </a:rPr>
              <a:t>Cool Environments Around Evolved Massive Stars As Seen by AKA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95280" y="3276720"/>
            <a:ext cx="6400800" cy="20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P. Marsto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amp; P. Morri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trument and Calibration Scientist Team Lead, Herschel Science Centre, ES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SA Herschel Science Center, IPAC, Caltech, U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5019840" cy="51051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048120" y="2971800"/>
            <a:ext cx="304560" cy="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200400" y="2819520"/>
            <a:ext cx="0" cy="3045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743200" y="2514600"/>
            <a:ext cx="914400" cy="914400"/>
          </a:xfrm>
          <a:prstGeom prst="ellipse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43400" y="5105520"/>
            <a:ext cx="380880" cy="380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334120" y="3886200"/>
            <a:ext cx="2819160" cy="19209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819520" y="1143000"/>
            <a:ext cx="18288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Times New Roman"/>
              </a:rPr>
              <a:t>CO 2-1 from AST/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10080" y="297180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O 1-0 from SEST (45 arcsec b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76920" y="12952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R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Molecular emission forms broken/clumpy shell around the star – coincident w/AKARI shell?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15328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KARI FIS mapping shows areas of extended cool dust around WR sta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ws the mass-loss seque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er shells crossed by mapping show cavity formed at earlier sta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evidence for multiple major eruptions – as has been sugges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as are consistent with heavy/clumpy mass loss over periods of ord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ew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ears wit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vera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as mass-loss on order of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Wingdings 2"/>
                <a:ea typeface="Wingdings 2"/>
              </a:rPr>
              <a:t>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yr (assuming a gas/dust mass ratio of 20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077320" cy="7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19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resolved issues in Massive Star Ev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lf-Rayet (WR) St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vironments of Wolf-Rayet St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KARI far-infrared data (FI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pping the Cool Environments of WR St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nresolved Issues in Massive Star Ev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are massive stars born? Increasingly strong evidence that some (fraction?) ar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ecessarily born in GMC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exactly do very massive stars do? Do they become Red Supergiants (RSGs) or Luminous Blue Variables (LBVs). Once … more than onc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are the evolutionary links between the various massive star types in the upper HR diagram (e.g. B, B[e], yellow supergiant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much mass is lost over what time periods and what is the state of the sta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oretical models, predicting evolutionary phases, are dependant on chemistry, rotation, mass…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6562800" cy="5200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590920" y="1371600"/>
            <a:ext cx="533160" cy="838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15000" y="1447920"/>
            <a:ext cx="1066680" cy="457200"/>
          </a:xfrm>
          <a:prstGeom prst="ellipse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1676520"/>
            <a:ext cx="533160" cy="685800"/>
          </a:xfrm>
          <a:prstGeom prst="ellipse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09680" y="1371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W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19720" y="2057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LB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"/>
          <p:cNvCxnSpPr>
            <a:stCxn id="60" idx="2"/>
            <a:endCxn id="58" idx="6"/>
          </p:cNvCxnSpPr>
          <p:nvPr/>
        </p:nvCxnSpPr>
        <p:spPr>
          <a:xfrm rot="10800000">
            <a:off x="3123360" y="1789920"/>
            <a:ext cx="839160" cy="229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8160">
            <a:solidFill>
              <a:srgbClr val="3333cc"/>
            </a:solidFill>
            <a:miter/>
          </a:ln>
        </p:spPr>
      </p:cxnSp>
      <p:cxnSp>
        <p:nvCxnSpPr>
          <p:cNvPr id="64" name=""/>
          <p:cNvCxnSpPr/>
          <p:nvPr/>
        </p:nvCxnSpPr>
        <p:spPr>
          <a:xfrm rot="10800000">
            <a:off x="3047400" y="1675800"/>
            <a:ext cx="2647080" cy="183240"/>
          </a:xfrm>
          <a:prstGeom prst="curvedConnector5">
            <a:avLst>
              <a:gd name="adj1" fmla="val 48939"/>
              <a:gd name="adj2" fmla="val 146062"/>
              <a:gd name="adj3" fmla="val 48939"/>
            </a:avLst>
          </a:prstGeom>
          <a:ln w="38160">
            <a:solidFill>
              <a:srgbClr val="3333cc"/>
            </a:solidFill>
            <a:miter/>
          </a:ln>
        </p:spPr>
      </p:cxnSp>
      <p:sp>
        <p:nvSpPr>
          <p:cNvPr id="65" name=""/>
          <p:cNvSpPr/>
          <p:nvPr/>
        </p:nvSpPr>
        <p:spPr>
          <a:xfrm>
            <a:off x="4419720" y="144792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1676520"/>
            <a:ext cx="304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"/>
          <p:cNvCxnSpPr>
            <a:stCxn id="59" idx="3"/>
            <a:endCxn id="60" idx="6"/>
          </p:cNvCxnSpPr>
          <p:nvPr/>
        </p:nvCxnSpPr>
        <p:spPr>
          <a:xfrm rot="5400000">
            <a:off x="5091840" y="1240920"/>
            <a:ext cx="181800" cy="1375560"/>
          </a:xfrm>
          <a:prstGeom prst="curvedConnector2">
            <a:avLst/>
          </a:prstGeom>
          <a:ln w="38160">
            <a:solidFill>
              <a:srgbClr val="3333cc"/>
            </a:solidFill>
            <a:miter/>
          </a:ln>
        </p:spPr>
      </p:cxnSp>
      <p:sp>
        <p:nvSpPr>
          <p:cNvPr id="68" name=""/>
          <p:cNvSpPr/>
          <p:nvPr/>
        </p:nvSpPr>
        <p:spPr>
          <a:xfrm>
            <a:off x="5029200" y="1752480"/>
            <a:ext cx="228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Wolf-Rayet Sta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se are massive stars (10+ 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Wingdings 2"/>
                <a:ea typeface="Wingdings 2"/>
              </a:rPr>
              <a:t>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with high CNO abundan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w as strong emission-line stars (WN, WC, WO sub-type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effective surface temperatures (&gt;20k 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re -- approx. 200 known in the galax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lieved to b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volved from most massive O sta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mediate -- between O and WR star -- heavy mass-loss phases expected (e.g., Luminous Blue Variables such as Eta Carin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rox. half have optical emission-line shells several arc minutes across. Plus several exhibit large outer shells (~degree or more across) in HI/IR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324480" y="2362320"/>
            <a:ext cx="2210040" cy="21412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620120" y="24382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WR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15328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assive Star Evolution &amp; WR Environ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-44736" t="0" r="0" b="-44706"/>
          <a:stretch/>
        </p:blipFill>
        <p:spPr>
          <a:xfrm>
            <a:off x="1752480" y="4151160"/>
            <a:ext cx="5715000" cy="27068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09480" y="1371600"/>
            <a:ext cx="8305920" cy="36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avy mass loss phase(s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R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single stars &gt; 25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Wingdings 2"/>
                <a:ea typeface="Wingdings 2"/>
              </a:rPr>
              <a:t>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st wi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low wind(s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ast wi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the effects of these phases “visible”? What do they say about the evolution? --- The structure of the environments tells holds clues to the stellar his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7732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KARI FIS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KARI (JAXA) Far Infrared Surveyor was designed for all-sky surve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imaging in 2 wide + 2 narrow bands between 50 and 18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(plus FTS). [9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+ 14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bands shown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AKARI pointed mode (2x) over set regions of the sky around WR st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3124080" cy="28969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09480" y="3429000"/>
            <a:ext cx="3200400" cy="25052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419720" y="762120"/>
            <a:ext cx="3886200" cy="2466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5257800" y="3352680"/>
            <a:ext cx="2317680" cy="25909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362320" y="1219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 Extra Bold"/>
              </a:rPr>
              <a:t>WR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705720" y="990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 Extra Bold"/>
              </a:rPr>
              <a:t>WR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666880" y="37339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 Extra Bold"/>
              </a:rPr>
              <a:t>WR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391520" y="3505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 Extra Bold"/>
              </a:rPr>
              <a:t>WR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 Closer Look at WR16…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2342880" cy="2298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809880" y="1295280"/>
            <a:ext cx="2743200" cy="25434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362320" y="2971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3657600"/>
            <a:ext cx="8915400" cy="22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cal spectra indicate N enrichment in shell and filament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cessed ejecta material from stellar surf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ell” of radius 9’ @ 2kpc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5.5pc, at 10km/s suggests an age of 5.5x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ea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90/14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lux ratio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du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~25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flux at 14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.5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Wingdings 2"/>
                <a:ea typeface="Wingdings 2"/>
              </a:rPr>
              <a:t>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ust mass. Dusty outflow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58:25Z</dcterms:created>
  <dc:creator>tmarston</dc:creator>
  <dc:description/>
  <dc:language>en-US</dc:language>
  <cp:lastModifiedBy>tmarston</cp:lastModifiedBy>
  <dcterms:modified xsi:type="dcterms:W3CDTF">2008-08-28T09:41:54Z</dcterms:modified>
  <cp:revision>50</cp:revision>
  <dc:subject/>
  <dc:title>Slide 1</dc:title>
</cp:coreProperties>
</file>