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324480"/>
            <a:ext cx="914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ge </a:t>
            </a:r>
            <a:fld id="{517AF89D-B4DA-464E-872A-C1C8CE18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ESA Inter-Departmental Science Meeting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28/29 August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CC-logo-notransparant" descr=""/>
          <p:cNvPicPr/>
          <p:nvPr/>
        </p:nvPicPr>
        <p:blipFill>
          <a:blip r:embed="rId2"/>
          <a:stretch/>
        </p:blipFill>
        <p:spPr>
          <a:xfrm>
            <a:off x="4648320" y="6172200"/>
            <a:ext cx="990360" cy="4222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20120" y="6172200"/>
            <a:ext cx="83808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6629400" y="6095880"/>
            <a:ext cx="914400" cy="567000"/>
            <a:chOff x="6629400" y="6095880"/>
            <a:chExt cx="914400" cy="5670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6629400" y="6095880"/>
              <a:ext cx="872640" cy="56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629400" y="6095880"/>
              <a:ext cx="914400" cy="567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A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5867280" y="6172200"/>
            <a:ext cx="68580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600200" y="6248520"/>
            <a:ext cx="2781360" cy="3189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8458200" y="1522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492360" y="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Environments of Evolved Massive St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imes New Roman"/>
              </a:rPr>
              <a:t>Cool Environments Around Evolved Massive Stars As Seen by AK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. Marst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. Morri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ment and Calibration Scientist Team Lead, Herschel Science Centre, E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SA Herschel Science Center, IPAC, Caltech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019840" cy="510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8120" y="2971800"/>
            <a:ext cx="3045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2819520"/>
            <a:ext cx="0" cy="304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514600"/>
            <a:ext cx="914400" cy="914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105520"/>
            <a:ext cx="38088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81916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1143000"/>
            <a:ext cx="1828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CO 2-1 from AST/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9718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 1-0 from SEST (45 arcsec b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2952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lecular emission forms broken/clumpy shell around the star – coincident w/AKARI shell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ARI FIS mapping shows areas of extended cool dust around WR st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the mass-loss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hells crossed by mapping show cavity formed at earlier s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vidence for multiple major eruptions – as has been sugg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s are consistent with heavy/clumpy mass loss over periods of or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s mass-loss on order of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yr (assuming a gas/dust mass ratio of 2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solved issues in Massive Star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lf-Rayet (WR)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s of Wolf-Raye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RI far-infrared data (F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he Cool Environments of WR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resolved Issues in Massive Sta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re massive stars born? Increasingly strong evidence that some (fraction?)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cessarily born in GM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xactly do very massive stars do? Do they become Red Supergiants (RSGs) or Luminous Blue Variables (LBVs). Once … more than o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evolutionary links between the various massive star types in the upper HR diagram (e.g. B, B[e], yellow supergia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mass is lost over what time periods and what is the state of the s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tical models, predicting evolutionary phases, are dependant on chemistry, rotation, mas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62800" cy="520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1371600"/>
            <a:ext cx="53316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447920"/>
            <a:ext cx="1066680" cy="4572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676520"/>
            <a:ext cx="533160" cy="6858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37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2"/>
            <a:endCxn id="58" idx="6"/>
          </p:cNvCxnSpPr>
          <p:nvPr/>
        </p:nvCxnSpPr>
        <p:spPr>
          <a:xfrm rot="10800000">
            <a:off x="3123360" y="1789920"/>
            <a:ext cx="83916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64" name=""/>
          <p:cNvCxnSpPr/>
          <p:nvPr/>
        </p:nvCxnSpPr>
        <p:spPr>
          <a:xfrm rot="10800000">
            <a:off x="3047400" y="1675800"/>
            <a:ext cx="2647080" cy="183240"/>
          </a:xfrm>
          <a:prstGeom prst="curvedConnector5">
            <a:avLst>
              <a:gd name="adj1" fmla="val 48939"/>
              <a:gd name="adj2" fmla="val 146062"/>
              <a:gd name="adj3" fmla="val 48939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4419720" y="14479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67652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9" idx="3"/>
            <a:endCxn id="60" idx="6"/>
          </p:cNvCxnSpPr>
          <p:nvPr/>
        </p:nvCxnSpPr>
        <p:spPr>
          <a:xfrm rot="5400000">
            <a:off x="5091840" y="1240920"/>
            <a:ext cx="181800" cy="1375560"/>
          </a:xfrm>
          <a:prstGeom prst="curvedConnector2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5029200" y="1752480"/>
            <a:ext cx="22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lf-Rayet St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ssive stars (10+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ith high CNO abund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as strong emission-line stars (WN, WC, WO sub-typ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ffective surface temperatures (&gt;20k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 -- approx. 200 known in the gala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olved from most massive O st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-- between O and WR star -- heavy mass-loss phases expected (e.g., Luminous Blue Variables such as Eta Car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. half have optical emission-line shells several arc minutes across. Plus several exhibit large outer shells (~degree or more across) in HI/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210040" cy="214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0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R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ssive Star Evolution &amp; WR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44736" t="0" r="0" b="-44706"/>
          <a:stretch/>
        </p:blipFill>
        <p:spPr>
          <a:xfrm>
            <a:off x="1752480" y="4151160"/>
            <a:ext cx="5715000" cy="270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371600"/>
            <a:ext cx="83059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vy mass loss phase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single stars &gt; 2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w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w wind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st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effects of these phases “visible”? What do they say about the evolution? --- The structure of the environments tells holds clues to the stellar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KARI FI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KARI (JAXA) Far Infrared Surveyor was designed for all-sky surv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imaging in 2 wide + 2 narrow bands between 50 and 1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(plus FTS). [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bands shown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KARI pointed mode (2x) over set regions of the sky around WR st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24080" cy="2896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505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762120"/>
            <a:ext cx="3886200" cy="24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2317680" cy="259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219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Closer Look at WR16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42880" cy="22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2743200" cy="254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657600"/>
            <a:ext cx="89154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spectra indicate N enrichment in shell and filam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ssed ejecta material from stellar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ll” of radius 9’ @ 2kp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.5pc, at 10km/s suggests an age of 5.5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90/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ux rati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25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lux at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.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st mass. Dusty out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58:25Z</dcterms:created>
  <dc:creator>tmarston</dc:creator>
  <dc:description/>
  <dc:language>en-US</dc:language>
  <cp:lastModifiedBy>tmarston</cp:lastModifiedBy>
  <dcterms:modified xsi:type="dcterms:W3CDTF">2008-08-28T09:41:54Z</dcterms:modified>
  <cp:revision>50</cp:revision>
  <dc:subject/>
  <dc:title>Slide 1</dc:title>
</cp:coreProperties>
</file>