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3B4-8438-48E0-B96B-E08C7A33505C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F26-F989-4A5D-9A06-6D71D178BD8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263-A2FB-4B4B-94B9-56C7C13A315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CB00-44AF-492B-A5DD-BA7C1B60887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455-0E20-4560-A0E3-2333D870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79A-F7B8-4D65-89B2-5055DC5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8BF-2AB3-4832-BF25-2272EFB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4B6-5590-462A-B834-C766E79B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46F5-17EF-444C-9D9D-B898208D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9E9-9021-4FE3-9A98-37D12B0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E27-9D02-4B61-BE1A-5D63EDB2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662A-5C83-4B0D-8DDA-D62844D9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CAE-54B3-4D9C-A6D6-1CDD90E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9EE-19B2-4F69-85E3-D22E81EA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1D16-4A39-480A-80B8-57DEA1B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3D4-6F61-4834-9D10-87562A0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BD9-7B3A-47AE-B4CD-4783B71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7CC-3932-41AA-9C0A-4AFB77E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6F9D-B30D-4B89-87F0-0D40172B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5D27-B781-4913-9984-EDB84699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02E-371A-45E7-B380-F95427F4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FF8-4F0E-49BD-83FF-435C357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196-683E-4CBD-BF74-71ABE53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968-176D-44E2-B255-EA5DC17B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0E3-35A4-427E-AE58-0C2732D8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178-29A4-4F08-8B60-699F191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035-D9E6-4C8A-9A56-59D9CF1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561-4127-4154-9DE4-9D677EA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9A3-3928-4D32-ACAF-6B8A025E2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E9F-368B-4FBF-8F3E-5CBFA5970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611280" y="1295280"/>
            <a:ext cx="7921440" cy="4953240"/>
            <a:chOff x="611280" y="1295280"/>
            <a:chExt cx="7921440" cy="4953240"/>
          </a:xfrm>
        </p:grpSpPr>
        <p:sp>
          <p:nvSpPr>
            <p:cNvPr id="94" name="Text Box 7"/>
            <p:cNvSpPr/>
            <p:nvPr/>
          </p:nvSpPr>
          <p:spPr>
            <a:xfrm>
              <a:off x="611280" y="1295280"/>
              <a:ext cx="792144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Times New Roman"/>
                </a:rPr>
                <a:t>Waves in space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rom zoology to scientific interest</a:t>
              </a:r>
              <a:endParaRPr b="0" i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. Masso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ate of Science and Robotic Exploration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uropean Space Agency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9 August 2008, ESTEC, The Netherlands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1619280" y="1434600"/>
              <a:ext cx="5905440" cy="12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5595840" y="6095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533520" y="563868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[IMAGE] Plasmaspheric hiss.jpg"/>
          <p:cNvPicPr/>
          <p:nvPr/>
        </p:nvPicPr>
        <p:blipFill>
          <a:blip r:embed="rId3"/>
          <a:srcRect l="0" t="4776" r="0" b="21711"/>
          <a:stretch/>
        </p:blipFill>
        <p:spPr>
          <a:xfrm>
            <a:off x="5181480" y="2695680"/>
            <a:ext cx="3657600" cy="19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[IMAGE] Cluster whistlers.png"/>
          <p:cNvPicPr/>
          <p:nvPr/>
        </p:nvPicPr>
        <p:blipFill>
          <a:blip r:embed="rId4"/>
          <a:srcRect l="5315" t="43704" r="15061" b="20082"/>
          <a:stretch/>
        </p:blipFill>
        <p:spPr>
          <a:xfrm>
            <a:off x="447840" y="1143000"/>
            <a:ext cx="3362040" cy="1538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4864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44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2" descr="[IMAGE] Cluster chorus.tiff"/>
          <p:cNvPicPr/>
          <p:nvPr/>
        </p:nvPicPr>
        <p:blipFill>
          <a:blip r:embed="rId5"/>
          <a:stretch/>
        </p:blipFill>
        <p:spPr>
          <a:xfrm>
            <a:off x="380880" y="4648320"/>
            <a:ext cx="3594240" cy="1860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3"/>
          <p:cNvSpPr/>
          <p:nvPr/>
        </p:nvSpPr>
        <p:spPr>
          <a:xfrm>
            <a:off x="9144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ight Arrow 14"/>
          <p:cNvSpPr/>
          <p:nvPr/>
        </p:nvSpPr>
        <p:spPr>
          <a:xfrm rot="2037600">
            <a:off x="4014360" y="2360520"/>
            <a:ext cx="1447920" cy="37944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15"/>
          <p:cNvSpPr/>
          <p:nvPr/>
        </p:nvSpPr>
        <p:spPr>
          <a:xfrm rot="19728000">
            <a:off x="3848040" y="4157280"/>
            <a:ext cx="1447920" cy="3808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6" descr="08 May 2001 - WHISPER.png"/>
          <p:cNvPicPr/>
          <p:nvPr/>
        </p:nvPicPr>
        <p:blipFill>
          <a:blip r:embed="rId6"/>
          <a:srcRect l="0" t="0" r="0" b="5292"/>
          <a:stretch/>
        </p:blipFill>
        <p:spPr>
          <a:xfrm>
            <a:off x="685800" y="2743200"/>
            <a:ext cx="2922480" cy="1803240"/>
          </a:xfrm>
          <a:prstGeom prst="rect">
            <a:avLst/>
          </a:prstGeom>
          <a:ln w="0">
            <a:noFill/>
          </a:ln>
        </p:spPr>
      </p:pic>
      <p:sp>
        <p:nvSpPr>
          <p:cNvPr id="240" name="Right Arrow 17"/>
          <p:cNvSpPr/>
          <p:nvPr/>
        </p:nvSpPr>
        <p:spPr>
          <a:xfrm>
            <a:off x="3962520" y="3238560"/>
            <a:ext cx="1295280" cy="38088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114800" y="2720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02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02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2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2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1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pic>
          <p:nvPicPr>
            <p:cNvPr id="248" name="Picture 1031" descr="EUV 2001 8 May 0235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032"/>
            <p:cNvSpPr/>
            <p:nvPr/>
          </p:nvSpPr>
          <p:spPr>
            <a:xfrm>
              <a:off x="304776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2:35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1034"/>
          <p:cNvSpPr/>
          <p:nvPr/>
        </p:nvSpPr>
        <p:spPr>
          <a:xfrm>
            <a:off x="6477120" y="2362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rison with EUV  on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35"/>
          <p:cNvSpPr/>
          <p:nvPr/>
        </p:nvSpPr>
        <p:spPr>
          <a:xfrm>
            <a:off x="6400800" y="228600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57" name="Text Box 7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3:36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8" descr="EUV 2001 8 May 0336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64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4:38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9" descr="EUV 2001 8 May 0438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1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5:39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8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0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78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6:40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7" descr="EUV 2001 8 May 0539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EUV 2001 8 May 0640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86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7:4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9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5"/>
          <p:cNvGrpSpPr/>
          <p:nvPr/>
        </p:nvGrpSpPr>
        <p:grpSpPr>
          <a:xfrm>
            <a:off x="2971800" y="1714680"/>
            <a:ext cx="3200400" cy="4079160"/>
            <a:chOff x="2971800" y="1714680"/>
            <a:chExt cx="3200400" cy="4079160"/>
          </a:xfrm>
        </p:grpSpPr>
        <p:sp>
          <p:nvSpPr>
            <p:cNvPr id="293" name="Text Box 6"/>
            <p:cNvSpPr/>
            <p:nvPr/>
          </p:nvSpPr>
          <p:spPr>
            <a:xfrm>
              <a:off x="2971800" y="5334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 May 2001, 08:12 UT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7" descr="EUV 2001 8 May 0742"/>
            <p:cNvPicPr/>
            <p:nvPr/>
          </p:nvPicPr>
          <p:blipFill>
            <a:blip r:embed="rId3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EUV 2001 8 May 0812"/>
            <p:cNvPicPr/>
            <p:nvPr/>
          </p:nvPicPr>
          <p:blipFill>
            <a:blip r:embed="rId4"/>
            <a:stretch/>
          </p:blipFill>
          <p:spPr>
            <a:xfrm>
              <a:off x="2971800" y="1714680"/>
              <a:ext cx="3200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9"/>
            <p:cNvSpPr/>
            <p:nvPr/>
          </p:nvSpPr>
          <p:spPr>
            <a:xfrm>
              <a:off x="5029200" y="2209680"/>
              <a:ext cx="609480" cy="68580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[SOUND] chorus sound cluster short.mov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114" name="[SOUND] Plasmaspheric hiss Voyager Saturn short.mov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115" name="[SOUND] Cluster whislters short.mov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948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[SOUND] lion roar audio short.mov" descr=""/>
          <p:cNvPicPr/>
          <p:nvPr/>
        </p:nvPicPr>
        <p:blipFill>
          <a:blip r:embed="rId6"/>
          <a:stretch/>
        </p:blipFill>
        <p:spPr>
          <a:xfrm>
            <a:off x="8077320" y="281952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9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96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08 May 2001 - WHISPER.png"/>
          <p:cNvPicPr/>
          <p:nvPr/>
        </p:nvPicPr>
        <p:blipFill>
          <a:blip r:embed="rId3"/>
          <a:stretch/>
        </p:blipFill>
        <p:spPr>
          <a:xfrm>
            <a:off x="887400" y="1728720"/>
            <a:ext cx="7369200" cy="3400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7"/>
          <p:cNvSpPr/>
          <p:nvPr/>
        </p:nvSpPr>
        <p:spPr>
          <a:xfrm>
            <a:off x="4641120" y="609588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on et al., in press, 200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20"/>
          <p:cNvSpPr/>
          <p:nvPr/>
        </p:nvSpPr>
        <p:spPr>
          <a:xfrm>
            <a:off x="533520" y="5638680"/>
            <a:ext cx="3657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 + 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 wave involved in the plasmaspheric hiss creation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08 May 2001 - WHISPER.png"/>
          <p:cNvPicPr/>
          <p:nvPr/>
        </p:nvPicPr>
        <p:blipFill>
          <a:blip r:embed="rId3"/>
          <a:srcRect l="0" t="0" r="10015" b="11113"/>
          <a:stretch/>
        </p:blipFill>
        <p:spPr>
          <a:xfrm>
            <a:off x="2590920" y="1600200"/>
            <a:ext cx="2590560" cy="204480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19"/>
          <p:cNvCxnSpPr/>
          <p:nvPr/>
        </p:nvCxnSpPr>
        <p:spPr>
          <a:xfrm flipV="1">
            <a:off x="2286000" y="4419000"/>
            <a:ext cx="1372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2" name="TextBox 22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uster-IM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[IMAGE] Cluster plasmasphere crossing.jpg"/>
          <p:cNvPicPr/>
          <p:nvPr/>
        </p:nvPicPr>
        <p:blipFill>
          <a:blip r:embed="rId4"/>
          <a:srcRect l="9449" t="34616" r="17008" b="49770"/>
          <a:stretch/>
        </p:blipFill>
        <p:spPr>
          <a:xfrm>
            <a:off x="723960" y="3809880"/>
            <a:ext cx="6724440" cy="2424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[IMAGE] Cluster perigee.tiff"/>
          <p:cNvPicPr/>
          <p:nvPr/>
        </p:nvPicPr>
        <p:blipFill>
          <a:blip r:embed="rId5"/>
          <a:stretch/>
        </p:blipFill>
        <p:spPr>
          <a:xfrm>
            <a:off x="5638680" y="1676520"/>
            <a:ext cx="3176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3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457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52578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457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stl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12952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kilometric radi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2362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umann resonan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3623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c wav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2819520" y="2967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thermal continuu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0384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rnstein mode wa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990720" y="5638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uc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705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on roa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2578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-latitude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1522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roral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556272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orial noi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Box 29" descr=""/>
          <p:cNvPicPr/>
          <p:nvPr/>
        </p:nvPicPr>
        <p:blipFill>
          <a:blip r:embed="rId3"/>
          <a:stretch/>
        </p:blipFill>
        <p:spPr>
          <a:xfrm>
            <a:off x="1596960" y="1657440"/>
            <a:ext cx="5950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gnetosphere, radiation belts. plasmasphere, slot region, chorus.jpg"/>
          <p:cNvPicPr/>
          <p:nvPr/>
        </p:nvPicPr>
        <p:blipFill>
          <a:blip r:embed="rId3"/>
          <a:stretch/>
        </p:blipFill>
        <p:spPr>
          <a:xfrm>
            <a:off x="457200" y="1143000"/>
            <a:ext cx="4948200" cy="5410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6019920" y="2090880"/>
            <a:ext cx="20574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have a major impact on the energetic particles content of the radiation bel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0199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VERY MAGNETIZED PLAN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4"/>
          <p:cNvGrpSpPr/>
          <p:nvPr/>
        </p:nvGrpSpPr>
        <p:grpSpPr>
          <a:xfrm>
            <a:off x="349200" y="1371600"/>
            <a:ext cx="8445600" cy="5190120"/>
            <a:chOff x="349200" y="1371600"/>
            <a:chExt cx="8445600" cy="5190120"/>
          </a:xfrm>
        </p:grpSpPr>
        <p:pic>
          <p:nvPicPr>
            <p:cNvPr id="147" name="Picture 6" descr="RBSP NASA light.tiff"/>
            <p:cNvPicPr/>
            <p:nvPr/>
          </p:nvPicPr>
          <p:blipFill>
            <a:blip r:embed="rId3"/>
            <a:stretch/>
          </p:blipFill>
          <p:spPr>
            <a:xfrm>
              <a:off x="375120" y="1431720"/>
              <a:ext cx="8419680" cy="44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>
              <a:off x="699480" y="6102000"/>
              <a:ext cx="77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diation Belt Storm Probes mission , NASA, launch 2012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TextBox 11"/>
            <p:cNvGrpSpPr/>
            <p:nvPr/>
          </p:nvGrpSpPr>
          <p:grpSpPr>
            <a:xfrm>
              <a:off x="3156840" y="4613400"/>
              <a:ext cx="2096640" cy="783000"/>
              <a:chOff x="3156840" y="4613400"/>
              <a:chExt cx="2096640" cy="783000"/>
            </a:xfrm>
          </p:grpSpPr>
          <p:pic>
            <p:nvPicPr>
              <p:cNvPr id="150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6840" y="4613400"/>
                <a:ext cx="209664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93280" y="474588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Inn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TextBox 12"/>
            <p:cNvGrpSpPr/>
            <p:nvPr/>
          </p:nvGrpSpPr>
          <p:grpSpPr>
            <a:xfrm>
              <a:off x="349200" y="1371600"/>
              <a:ext cx="2090520" cy="783000"/>
              <a:chOff x="349200" y="1371600"/>
              <a:chExt cx="2090520" cy="783000"/>
            </a:xfrm>
          </p:grpSpPr>
          <p:pic>
            <p:nvPicPr>
              <p:cNvPr id="153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0" y="1371600"/>
                <a:ext cx="209052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482760" y="1506960"/>
                <a:ext cx="182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uter belt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Straight Connector 13"/>
            <p:cNvSpPr/>
            <p:nvPr/>
          </p:nvSpPr>
          <p:spPr>
            <a:xfrm>
              <a:off x="1394280" y="2184840"/>
              <a:ext cx="83556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Straight Connector 14"/>
            <p:cNvSpPr/>
            <p:nvPr/>
          </p:nvSpPr>
          <p:spPr>
            <a:xfrm flipV="1">
              <a:off x="4312080" y="3841920"/>
              <a:ext cx="651960" cy="77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Straight Connector 21"/>
            <p:cNvSpPr/>
            <p:nvPr/>
          </p:nvSpPr>
          <p:spPr>
            <a:xfrm flipH="1">
              <a:off x="3597480" y="2109600"/>
              <a:ext cx="607680" cy="60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TextBox 23"/>
            <p:cNvGrpSpPr/>
            <p:nvPr/>
          </p:nvGrpSpPr>
          <p:grpSpPr>
            <a:xfrm>
              <a:off x="4220280" y="1522080"/>
              <a:ext cx="3615840" cy="1211040"/>
              <a:chOff x="4220280" y="1522080"/>
              <a:chExt cx="3615840" cy="1211040"/>
            </a:xfrm>
          </p:grpSpPr>
          <p:pic>
            <p:nvPicPr>
              <p:cNvPr id="15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220280" y="1522080"/>
                <a:ext cx="361584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356720" y="1657440"/>
                <a:ext cx="3342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Killer electrons void (E&gt;1.2 MeV)</a:t>
                </a: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horus impacts on particles.gif"/>
          <p:cNvPicPr/>
          <p:nvPr/>
        </p:nvPicPr>
        <p:blipFill>
          <a:blip r:embed="rId3"/>
          <a:stretch/>
        </p:blipFill>
        <p:spPr>
          <a:xfrm>
            <a:off x="533520" y="1143000"/>
            <a:ext cx="29718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[IMAGE] Plasmaspheric hiss.jpg"/>
          <p:cNvPicPr/>
          <p:nvPr/>
        </p:nvPicPr>
        <p:blipFill>
          <a:blip r:embed="rId4"/>
          <a:stretch/>
        </p:blipFill>
        <p:spPr>
          <a:xfrm>
            <a:off x="4038480" y="1808280"/>
            <a:ext cx="446904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3809880" y="1600200"/>
            <a:ext cx="30492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048120" y="4191120"/>
            <a:ext cx="45720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590920" y="1143000"/>
            <a:ext cx="914400" cy="1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419720" y="54100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responsible for the electron slot  [Thorne, 1973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9528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[SOUND] Plasmaspheric hiss Voyager Saturn short.mov" descr=""/>
          <p:cNvPicPr/>
          <p:nvPr/>
        </p:nvPicPr>
        <p:blipFill>
          <a:blip r:embed="rId5"/>
          <a:stretch/>
        </p:blipFill>
        <p:spPr>
          <a:xfrm>
            <a:off x="8077320" y="5029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11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7"/>
          <p:cNvGrpSpPr/>
          <p:nvPr/>
        </p:nvGrpSpPr>
        <p:grpSpPr>
          <a:xfrm>
            <a:off x="1411200" y="1219320"/>
            <a:ext cx="6321600" cy="4919040"/>
            <a:chOff x="1411200" y="1219320"/>
            <a:chExt cx="6321600" cy="4919040"/>
          </a:xfrm>
        </p:grpSpPr>
        <p:pic>
          <p:nvPicPr>
            <p:cNvPr id="179" name="Picture 6" descr="Plasmasphere hiss chorus [Nature].jpg"/>
            <p:cNvPicPr/>
            <p:nvPr/>
          </p:nvPicPr>
          <p:blipFill>
            <a:blip r:embed="rId3"/>
            <a:srcRect l="0" t="11343" r="0" b="0"/>
            <a:stretch/>
          </p:blipFill>
          <p:spPr>
            <a:xfrm>
              <a:off x="1563480" y="1219320"/>
              <a:ext cx="563796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1411200" y="5540760"/>
              <a:ext cx="251460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oru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Box 8"/>
            <p:cNvSpPr/>
            <p:nvPr/>
          </p:nvSpPr>
          <p:spPr>
            <a:xfrm>
              <a:off x="4916520" y="5540760"/>
              <a:ext cx="2816280" cy="45972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smaspheric hiss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3849120" y="4093200"/>
              <a:ext cx="106668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ight Arrow 11"/>
            <p:cNvSpPr/>
            <p:nvPr/>
          </p:nvSpPr>
          <p:spPr>
            <a:xfrm>
              <a:off x="4001760" y="4703040"/>
              <a:ext cx="838080" cy="45720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4458600" y="5312880"/>
              <a:ext cx="380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1411200" y="4093200"/>
              <a:ext cx="9140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lasmasphere hiss chorus [Nature].jpg"/>
          <p:cNvPicPr/>
          <p:nvPr/>
        </p:nvPicPr>
        <p:blipFill>
          <a:blip r:embed="rId3"/>
          <a:srcRect l="0" t="11343" r="0" b="0"/>
          <a:stretch/>
        </p:blipFill>
        <p:spPr>
          <a:xfrm>
            <a:off x="1563840" y="121932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411200" y="5562720"/>
            <a:ext cx="251460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916520" y="5540400"/>
            <a:ext cx="2816280" cy="459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spheric hi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849840" y="4092480"/>
            <a:ext cx="1066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ight Arrow 11"/>
          <p:cNvSpPr/>
          <p:nvPr/>
        </p:nvSpPr>
        <p:spPr>
          <a:xfrm>
            <a:off x="4002120" y="470232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4459320" y="5311800"/>
            <a:ext cx="380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11200" y="4092480"/>
            <a:ext cx="91440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Magnetosphere, radiation belts. plasmasphere, slot region, chorus.jpg"/>
          <p:cNvPicPr/>
          <p:nvPr/>
        </p:nvPicPr>
        <p:blipFill>
          <a:blip r:embed="rId4"/>
          <a:srcRect l="0" t="17628" r="0" b="28205"/>
          <a:stretch/>
        </p:blipFill>
        <p:spPr>
          <a:xfrm>
            <a:off x="2286000" y="1108080"/>
            <a:ext cx="4262400" cy="2930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6"/>
          <p:cNvSpPr/>
          <p:nvPr/>
        </p:nvSpPr>
        <p:spPr>
          <a:xfrm>
            <a:off x="1371600" y="1066680"/>
            <a:ext cx="9144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477120" y="6324480"/>
            <a:ext cx="2438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tnik et al., Nature, 2008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poster_wo_titles_3"/>
          <p:cNvPicPr/>
          <p:nvPr/>
        </p:nvPicPr>
        <p:blipFill>
          <a:blip r:embed="rId1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sa-98b_blue"/>
          <p:cNvPicPr/>
          <p:nvPr/>
        </p:nvPicPr>
        <p:blipFill>
          <a:blip r:embed="rId2"/>
          <a:srcRect l="0" t="0" r="8418" b="0"/>
          <a:stretch/>
        </p:blipFill>
        <p:spPr>
          <a:xfrm>
            <a:off x="4867200" y="299880"/>
            <a:ext cx="3916440" cy="5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[IMAGE] Cluster whistlers.png"/>
          <p:cNvPicPr/>
          <p:nvPr/>
        </p:nvPicPr>
        <p:blipFill>
          <a:blip r:embed="rId3"/>
          <a:srcRect l="0" t="12995" r="0" b="20082"/>
          <a:stretch/>
        </p:blipFill>
        <p:spPr>
          <a:xfrm>
            <a:off x="1743120" y="3733920"/>
            <a:ext cx="5657760" cy="28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[IMAGE] Whistler perturbs.png"/>
          <p:cNvPicPr/>
          <p:nvPr/>
        </p:nvPicPr>
        <p:blipFill>
          <a:blip r:embed="rId4"/>
          <a:stretch/>
        </p:blipFill>
        <p:spPr>
          <a:xfrm>
            <a:off x="1752480" y="1112760"/>
            <a:ext cx="54295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10:13Z</dcterms:created>
  <dc:creator>Arnaud Masson</dc:creator>
  <dc:description/>
  <dc:language>en-US</dc:language>
  <cp:lastModifiedBy>Arnaud Masson</cp:lastModifiedBy>
  <cp:lastPrinted>2008-08-27T21:15:53Z</cp:lastPrinted>
  <dcterms:modified xsi:type="dcterms:W3CDTF">2008-08-29T12:16:43Z</dcterms:modified>
  <cp:revision>70</cp:revision>
  <dc:subject/>
  <dc:title>No Slide Title</dc:title>
</cp:coreProperties>
</file>