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7138-2D65-4EEF-9CFD-2F044F36636C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6DD-3835-4DE7-A488-DF4E3605AAE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0D53-0F8E-40E5-96E2-B770D8DDC4E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6E23-3F7E-4EC6-9A62-B3B0BFB4BDB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91D-C13D-4CB0-948A-E4623475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9A4-A4B7-427E-99AF-B7FC91BA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5E4-07AE-4537-87B8-336AE95C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E58-F8BC-432E-BFE2-661C5CC3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E4F-4777-418F-9D8F-3F464829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E43E-D31C-4FA7-BBCE-48AC416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2B47-86FE-4CE3-9207-5BD43085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916-E96E-4AFD-912F-8FC4DA4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C43D-CDC9-439E-90BE-0846DA4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CF03-6D21-414C-9C14-63F9816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13BE-AA9F-40C9-A05F-C893431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5AE-6440-4003-82AC-0F7918DF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FA6D-F646-4ABF-A6C2-6F80F04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DEA4-445D-4D4D-BFE1-BFD1A6D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0F47-C9A5-4E9B-A7D1-E3B5242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1F1-9CE9-4CC7-85E6-1653EC6A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DFAA-98C4-48F8-A9A7-3AA4F36B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3AD-E12E-4B33-B704-0587C01C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C55-DE8C-4E79-92B7-7DDECCAC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E85-FF1B-4EED-A12F-0B5BD6A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8AB-CC0D-4A65-A1B5-4C4F0E33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1B7-8041-4E6A-9D27-F71D9E99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148-7D4A-4AB4-B038-F8D1F99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A1F-2458-4BA4-9156-7A6C23DF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154-EFB2-40AE-898D-EB7D9EEC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13E1-27C2-4773-B46F-8928C5D98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611280" y="1295280"/>
            <a:ext cx="7921440" cy="4953240"/>
            <a:chOff x="611280" y="1295280"/>
            <a:chExt cx="7921440" cy="4953240"/>
          </a:xfrm>
        </p:grpSpPr>
        <p:sp>
          <p:nvSpPr>
            <p:cNvPr id="94" name="Text Box 7"/>
            <p:cNvSpPr/>
            <p:nvPr/>
          </p:nvSpPr>
          <p:spPr>
            <a:xfrm>
              <a:off x="611280" y="1295280"/>
              <a:ext cx="792144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Times New Roman"/>
                </a:rPr>
                <a:t>Waves in space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rom zoology to scientific interest</a:t>
              </a:r>
              <a:endParaRPr b="0" i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. Masso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ate of Science and Robotic Explor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uropean Space Agency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9 August 2008, ESTEC, The Netherlan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1619280" y="1434600"/>
              <a:ext cx="5905440" cy="12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5595840" y="6095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533520" y="563868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6" descr="08 May 2001 - WHISPER.png"/>
          <p:cNvPicPr/>
          <p:nvPr/>
        </p:nvPicPr>
        <p:blipFill>
          <a:blip r:embed="rId6"/>
          <a:srcRect l="0" t="0" r="0" b="5292"/>
          <a:stretch/>
        </p:blipFill>
        <p:spPr>
          <a:xfrm>
            <a:off x="685800" y="2743200"/>
            <a:ext cx="2922480" cy="1803240"/>
          </a:xfrm>
          <a:prstGeom prst="rect">
            <a:avLst/>
          </a:prstGeom>
          <a:ln w="0">
            <a:noFill/>
          </a:ln>
        </p:spPr>
      </p:pic>
      <p:sp>
        <p:nvSpPr>
          <p:cNvPr id="240" name="Right Arrow 17"/>
          <p:cNvSpPr/>
          <p:nvPr/>
        </p:nvSpPr>
        <p:spPr>
          <a:xfrm>
            <a:off x="3962520" y="3238560"/>
            <a:ext cx="1295280" cy="38088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114800" y="2720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02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02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2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2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1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pic>
          <p:nvPicPr>
            <p:cNvPr id="248" name="Picture 1031" descr="EUV 2001 8 May 0235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032"/>
            <p:cNvSpPr/>
            <p:nvPr/>
          </p:nvSpPr>
          <p:spPr>
            <a:xfrm>
              <a:off x="304776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2:35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034"/>
          <p:cNvSpPr/>
          <p:nvPr/>
        </p:nvSpPr>
        <p:spPr>
          <a:xfrm>
            <a:off x="6477120" y="2362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son with EUV  on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35"/>
          <p:cNvSpPr/>
          <p:nvPr/>
        </p:nvSpPr>
        <p:spPr>
          <a:xfrm>
            <a:off x="6400800" y="228600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57" name="Text Box 7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3:36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8" descr="EUV 2001 8 May 0336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64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4:38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9" descr="EUV 2001 8 May 0438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1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5:39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8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6:40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7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EUV 2001 8 May 0640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86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7:4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9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5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93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8:1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7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EUV 2001 8 May 0812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9"/>
            <p:cNvSpPr/>
            <p:nvPr/>
          </p:nvSpPr>
          <p:spPr>
            <a:xfrm>
              <a:off x="5029200" y="2209680"/>
              <a:ext cx="609480" cy="68580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[SOUND] chorus sound cluster short.mov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114" name="[SOUND] Plasmaspheric hiss Voyager Saturn short.mov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115" name="[SOUND] Cluster whislters short.mov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948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[SOUND] lion roar audio short.mov" descr=""/>
          <p:cNvPicPr/>
          <p:nvPr/>
        </p:nvPicPr>
        <p:blipFill>
          <a:blip r:embed="rId6"/>
          <a:stretch/>
        </p:blipFill>
        <p:spPr>
          <a:xfrm>
            <a:off x="8077320" y="281952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9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6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7"/>
          <p:cNvSpPr/>
          <p:nvPr/>
        </p:nvSpPr>
        <p:spPr>
          <a:xfrm>
            <a:off x="4641120" y="60958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in press, 200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20"/>
          <p:cNvSpPr/>
          <p:nvPr/>
        </p:nvSpPr>
        <p:spPr>
          <a:xfrm>
            <a:off x="533520" y="5638680"/>
            <a:ext cx="3657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 +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08 May 2001 - WHISPER.png"/>
          <p:cNvPicPr/>
          <p:nvPr/>
        </p:nvPicPr>
        <p:blipFill>
          <a:blip r:embed="rId3"/>
          <a:srcRect l="0" t="0" r="10015" b="11113"/>
          <a:stretch/>
        </p:blipFill>
        <p:spPr>
          <a:xfrm>
            <a:off x="2590920" y="1600200"/>
            <a:ext cx="2590560" cy="204480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TextBox 22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er-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[IMAGE] Cluster plasmasphere crossing.jpg"/>
          <p:cNvPicPr/>
          <p:nvPr/>
        </p:nvPicPr>
        <p:blipFill>
          <a:blip r:embed="rId4"/>
          <a:srcRect l="9449" t="34616" r="17008" b="49770"/>
          <a:stretch/>
        </p:blipFill>
        <p:spPr>
          <a:xfrm>
            <a:off x="723960" y="3809880"/>
            <a:ext cx="6724440" cy="2424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[IMAGE] Cluster perigee.tiff"/>
          <p:cNvPicPr/>
          <p:nvPr/>
        </p:nvPicPr>
        <p:blipFill>
          <a:blip r:embed="rId5"/>
          <a:stretch/>
        </p:blipFill>
        <p:spPr>
          <a:xfrm>
            <a:off x="5638680" y="1676520"/>
            <a:ext cx="3176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Box 29" descr=""/>
          <p:cNvPicPr/>
          <p:nvPr/>
        </p:nvPicPr>
        <p:blipFill>
          <a:blip r:embed="rId3"/>
          <a:stretch/>
        </p:blipFill>
        <p:spPr>
          <a:xfrm>
            <a:off x="1596960" y="1657440"/>
            <a:ext cx="5950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gnetosphere, radiation belts. plasmasphere, slot region, chorus.jpg"/>
          <p:cNvPicPr/>
          <p:nvPr/>
        </p:nvPicPr>
        <p:blipFill>
          <a:blip r:embed="rId3"/>
          <a:stretch/>
        </p:blipFill>
        <p:spPr>
          <a:xfrm>
            <a:off x="457200" y="1143000"/>
            <a:ext cx="4948200" cy="5410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6019920" y="2090880"/>
            <a:ext cx="20574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have a major impact on the energetic particles content of the radiation bel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0199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VERY MAGNETIZED PLAN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4"/>
          <p:cNvGrpSpPr/>
          <p:nvPr/>
        </p:nvGrpSpPr>
        <p:grpSpPr>
          <a:xfrm>
            <a:off x="349200" y="1371600"/>
            <a:ext cx="8445600" cy="5190120"/>
            <a:chOff x="349200" y="1371600"/>
            <a:chExt cx="8445600" cy="5190120"/>
          </a:xfrm>
        </p:grpSpPr>
        <p:pic>
          <p:nvPicPr>
            <p:cNvPr id="147" name="Picture 6" descr="RBSP NASA light.tiff"/>
            <p:cNvPicPr/>
            <p:nvPr/>
          </p:nvPicPr>
          <p:blipFill>
            <a:blip r:embed="rId3"/>
            <a:stretch/>
          </p:blipFill>
          <p:spPr>
            <a:xfrm>
              <a:off x="375120" y="1431720"/>
              <a:ext cx="841968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>
              <a:off x="699480" y="6102000"/>
              <a:ext cx="77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diation Belt Storm Probes mission , NASA, launch 201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TextBox 11"/>
            <p:cNvGrpSpPr/>
            <p:nvPr/>
          </p:nvGrpSpPr>
          <p:grpSpPr>
            <a:xfrm>
              <a:off x="3156840" y="4613400"/>
              <a:ext cx="2096640" cy="783000"/>
              <a:chOff x="3156840" y="4613400"/>
              <a:chExt cx="2096640" cy="783000"/>
            </a:xfrm>
          </p:grpSpPr>
          <p:pic>
            <p:nvPicPr>
              <p:cNvPr id="150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6840" y="4613400"/>
                <a:ext cx="209664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93280" y="474588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Inn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TextBox 12"/>
            <p:cNvGrpSpPr/>
            <p:nvPr/>
          </p:nvGrpSpPr>
          <p:grpSpPr>
            <a:xfrm>
              <a:off x="349200" y="1371600"/>
              <a:ext cx="2090520" cy="783000"/>
              <a:chOff x="349200" y="1371600"/>
              <a:chExt cx="2090520" cy="783000"/>
            </a:xfrm>
          </p:grpSpPr>
          <p:pic>
            <p:nvPicPr>
              <p:cNvPr id="153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0" y="1371600"/>
                <a:ext cx="209052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82760" y="150696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ut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Straight Connector 13"/>
            <p:cNvSpPr/>
            <p:nvPr/>
          </p:nvSpPr>
          <p:spPr>
            <a:xfrm>
              <a:off x="1394280" y="2184840"/>
              <a:ext cx="83556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14"/>
            <p:cNvSpPr/>
            <p:nvPr/>
          </p:nvSpPr>
          <p:spPr>
            <a:xfrm flipV="1">
              <a:off x="4312080" y="3841920"/>
              <a:ext cx="651960" cy="77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21"/>
            <p:cNvSpPr/>
            <p:nvPr/>
          </p:nvSpPr>
          <p:spPr>
            <a:xfrm flipH="1">
              <a:off x="3597480" y="2109600"/>
              <a:ext cx="60768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TextBox 23"/>
            <p:cNvGrpSpPr/>
            <p:nvPr/>
          </p:nvGrpSpPr>
          <p:grpSpPr>
            <a:xfrm>
              <a:off x="4220280" y="1522080"/>
              <a:ext cx="3615840" cy="1211040"/>
              <a:chOff x="4220280" y="1522080"/>
              <a:chExt cx="3615840" cy="1211040"/>
            </a:xfrm>
          </p:grpSpPr>
          <p:pic>
            <p:nvPicPr>
              <p:cNvPr id="15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220280" y="1522080"/>
                <a:ext cx="361584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356720" y="1657440"/>
                <a:ext cx="334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Killer electrons void (E&gt;1.2 MeV)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horus impacts on particles.gif"/>
          <p:cNvPicPr/>
          <p:nvPr/>
        </p:nvPicPr>
        <p:blipFill>
          <a:blip r:embed="rId3"/>
          <a:stretch/>
        </p:blipFill>
        <p:spPr>
          <a:xfrm>
            <a:off x="533520" y="1143000"/>
            <a:ext cx="29718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[IMAGE] Plasmaspheric hiss.jpg"/>
          <p:cNvPicPr/>
          <p:nvPr/>
        </p:nvPicPr>
        <p:blipFill>
          <a:blip r:embed="rId4"/>
          <a:stretch/>
        </p:blipFill>
        <p:spPr>
          <a:xfrm>
            <a:off x="4038480" y="1808280"/>
            <a:ext cx="446904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3809880" y="1600200"/>
            <a:ext cx="3049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048120" y="4191120"/>
            <a:ext cx="4572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590920" y="1143000"/>
            <a:ext cx="914400" cy="1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419720" y="54100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responsible for the electron slot  [Thorne, 1973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9528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[SOUND] Plasmaspheric hiss Voyager Saturn short.mov" descr=""/>
          <p:cNvPicPr/>
          <p:nvPr/>
        </p:nvPicPr>
        <p:blipFill>
          <a:blip r:embed="rId5"/>
          <a:stretch/>
        </p:blipFill>
        <p:spPr>
          <a:xfrm>
            <a:off x="8077320" y="5029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1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1411200" y="1219320"/>
            <a:ext cx="6321600" cy="4919040"/>
            <a:chOff x="1411200" y="1219320"/>
            <a:chExt cx="6321600" cy="4919040"/>
          </a:xfrm>
        </p:grpSpPr>
        <p:pic>
          <p:nvPicPr>
            <p:cNvPr id="179" name="Picture 6" descr="Plasmasphere hiss chorus [Nature].jpg"/>
            <p:cNvPicPr/>
            <p:nvPr/>
          </p:nvPicPr>
          <p:blipFill>
            <a:blip r:embed="rId3"/>
            <a:srcRect l="0" t="11343" r="0" b="0"/>
            <a:stretch/>
          </p:blipFill>
          <p:spPr>
            <a:xfrm>
              <a:off x="1563480" y="1219320"/>
              <a:ext cx="563796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1411200" y="5540760"/>
              <a:ext cx="251460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r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916520" y="5540760"/>
              <a:ext cx="281628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spheric his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3849120" y="4093200"/>
              <a:ext cx="106668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ight Arrow 11"/>
            <p:cNvSpPr/>
            <p:nvPr/>
          </p:nvSpPr>
          <p:spPr>
            <a:xfrm>
              <a:off x="4001760" y="4703040"/>
              <a:ext cx="838080" cy="45720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4458600" y="5312880"/>
              <a:ext cx="380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1411200" y="4093200"/>
              <a:ext cx="9140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lasmasphere hiss chorus [Nature].jpg"/>
          <p:cNvPicPr/>
          <p:nvPr/>
        </p:nvPicPr>
        <p:blipFill>
          <a:blip r:embed="rId3"/>
          <a:srcRect l="0" t="11343" r="0" b="0"/>
          <a:stretch/>
        </p:blipFill>
        <p:spPr>
          <a:xfrm>
            <a:off x="1563840" y="121932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411200" y="5562720"/>
            <a:ext cx="251460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916520" y="5540400"/>
            <a:ext cx="281628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849840" y="4092480"/>
            <a:ext cx="1066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11"/>
          <p:cNvSpPr/>
          <p:nvPr/>
        </p:nvSpPr>
        <p:spPr>
          <a:xfrm>
            <a:off x="4002120" y="47023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4459320" y="5311800"/>
            <a:ext cx="380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11200" y="4092480"/>
            <a:ext cx="91440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Magnetosphere, radiation belts. plasmasphere, slot region, chorus.jpg"/>
          <p:cNvPicPr/>
          <p:nvPr/>
        </p:nvPicPr>
        <p:blipFill>
          <a:blip r:embed="rId4"/>
          <a:srcRect l="0" t="17628" r="0" b="28205"/>
          <a:stretch/>
        </p:blipFill>
        <p:spPr>
          <a:xfrm>
            <a:off x="2286000" y="1108080"/>
            <a:ext cx="4262400" cy="2930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6"/>
          <p:cNvSpPr/>
          <p:nvPr/>
        </p:nvSpPr>
        <p:spPr>
          <a:xfrm>
            <a:off x="1371600" y="1066680"/>
            <a:ext cx="9144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[IMAGE] Cluster whistlers.png"/>
          <p:cNvPicPr/>
          <p:nvPr/>
        </p:nvPicPr>
        <p:blipFill>
          <a:blip r:embed="rId3"/>
          <a:srcRect l="0" t="12995" r="0" b="20082"/>
          <a:stretch/>
        </p:blipFill>
        <p:spPr>
          <a:xfrm>
            <a:off x="1743120" y="3733920"/>
            <a:ext cx="5657760" cy="28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[IMAGE] Whistler perturbs.png"/>
          <p:cNvPicPr/>
          <p:nvPr/>
        </p:nvPicPr>
        <p:blipFill>
          <a:blip r:embed="rId4"/>
          <a:stretch/>
        </p:blipFill>
        <p:spPr>
          <a:xfrm>
            <a:off x="1752480" y="1112760"/>
            <a:ext cx="5429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10:13Z</dcterms:created>
  <dc:creator>Arnaud Masson</dc:creator>
  <dc:description/>
  <dc:language>en-US</dc:language>
  <cp:lastModifiedBy>Arnaud Masson</cp:lastModifiedBy>
  <cp:lastPrinted>2008-08-27T21:15:53Z</cp:lastPrinted>
  <dcterms:modified xsi:type="dcterms:W3CDTF">2008-08-29T12:16:43Z</dcterms:modified>
  <cp:revision>70</cp:revision>
  <dc:subject/>
  <dc:title>No Slide Title</dc:title>
</cp:coreProperties>
</file>